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EB5-43A6-4959-A3B3-87C5B558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8FF-8AC2-4182-9E94-33CC5FD0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DE2-D637-4CF2-91FD-13FBBA62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50C-60E8-4E36-9C28-9E938F40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FCB6-254C-4277-8AF5-9BAC668F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8029-5A81-4EA1-B561-9D8E1DD3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6036-8C1E-44B2-BE88-C4B1D3AB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EE30-510A-4738-88EC-D89F0C28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E970-0687-4B81-9D5D-6672859D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12EC-BE54-4F2D-A078-FB7A0387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1281-0351-42B2-9DDB-6568913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4EB-D689-4D9D-93A2-2BCA94F4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E3A6-C334-4D73-BBB8-5C8698F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F0C5-60D4-4685-A1DA-27A5C723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9701-3007-4495-8F9C-683CB47F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1156-7BE8-413A-9DF2-FC9029AB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A638-E795-4634-A10F-81C30745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265-D4B8-412C-A7D0-C9C23F57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626-809C-42E5-89B0-9059E1F0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707-530E-4F10-98D8-6D261AA8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46E-5CDD-4F1C-B5C5-4F7A461A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66F-D7A3-4C6B-B3E9-584BB69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EF9-89AB-4421-BC2D-84EFAB2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5C3-2D1D-4E99-8498-4F5C1599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0D1B-97C1-41BB-A408-49EE079DDA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BC26-CD84-4D62-9692-142A0771C9E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装置通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23920" y="2575440"/>
            <a:ext cx="29638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闭合实验台空气断路器，并打开其左侧的两个船型开关，在图示位置可得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V D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7" descr="电源板"/>
          <p:cNvPicPr/>
          <p:nvPr/>
        </p:nvPicPr>
        <p:blipFill>
          <a:blip r:embed="rId1"/>
          <a:srcRect l="8795" t="0" r="7682" b="3742"/>
          <a:stretch/>
        </p:blipFill>
        <p:spPr>
          <a:xfrm>
            <a:off x="3203640" y="1355760"/>
            <a:ext cx="5776920" cy="4992480"/>
          </a:xfrm>
          <a:prstGeom prst="rect">
            <a:avLst/>
          </a:prstGeom>
          <a:ln w="0">
            <a:noFill/>
          </a:ln>
        </p:spPr>
      </p:pic>
      <p:sp>
        <p:nvSpPr>
          <p:cNvPr id="86" name="椭圆 1"/>
          <p:cNvSpPr/>
          <p:nvPr/>
        </p:nvSpPr>
        <p:spPr>
          <a:xfrm>
            <a:off x="6875640" y="2349360"/>
            <a:ext cx="1657080" cy="1374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椭圆 6"/>
          <p:cNvSpPr/>
          <p:nvPr/>
        </p:nvSpPr>
        <p:spPr>
          <a:xfrm>
            <a:off x="3527280" y="2357280"/>
            <a:ext cx="2700360" cy="1216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椭圆 7"/>
          <p:cNvSpPr/>
          <p:nvPr/>
        </p:nvSpPr>
        <p:spPr>
          <a:xfrm>
            <a:off x="3635280" y="4653000"/>
            <a:ext cx="1116000" cy="7920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外部接线说明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输入接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50920" y="2247840"/>
            <a:ext cx="26636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数字量输入通常连接按钮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常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点，此时梯形图中的输入点状态与外部连接的触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状态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" name="Picture 8" descr="可编程序控制器面板"/>
          <p:cNvPicPr/>
          <p:nvPr/>
        </p:nvPicPr>
        <p:blipFill>
          <a:blip r:embed="rId1"/>
          <a:srcRect l="15168" t="67654" r="25727" b="6731"/>
          <a:stretch/>
        </p:blipFill>
        <p:spPr>
          <a:xfrm>
            <a:off x="2943360" y="1413000"/>
            <a:ext cx="598140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输入输出设备"/>
          <p:cNvPicPr/>
          <p:nvPr/>
        </p:nvPicPr>
        <p:blipFill>
          <a:blip r:embed="rId2"/>
          <a:srcRect l="15395" t="64217" r="49141" b="9701"/>
          <a:stretch/>
        </p:blipFill>
        <p:spPr>
          <a:xfrm>
            <a:off x="5148360" y="4021200"/>
            <a:ext cx="3755880" cy="2071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电源板"/>
          <p:cNvPicPr/>
          <p:nvPr/>
        </p:nvPicPr>
        <p:blipFill>
          <a:blip r:embed="rId3"/>
          <a:srcRect l="14842" t="42784" r="68162" b="18753"/>
          <a:stretch/>
        </p:blipFill>
        <p:spPr>
          <a:xfrm>
            <a:off x="3033720" y="3716280"/>
            <a:ext cx="1682640" cy="2854440"/>
          </a:xfrm>
          <a:prstGeom prst="rect">
            <a:avLst/>
          </a:prstGeom>
          <a:ln w="0">
            <a:noFill/>
          </a:ln>
        </p:spPr>
      </p:pic>
      <p:sp>
        <p:nvSpPr>
          <p:cNvPr id="137" name="弧形 1"/>
          <p:cNvSpPr/>
          <p:nvPr/>
        </p:nvSpPr>
        <p:spPr>
          <a:xfrm flipH="1">
            <a:off x="2986920" y="3141720"/>
            <a:ext cx="792360" cy="2374920"/>
          </a:xfrm>
          <a:custGeom>
            <a:avLst/>
            <a:gdLst/>
            <a:ahLst/>
            <a:rect l="l" t="t" r="r" b="b"/>
            <a:pathLst>
              <a:path stroke="0" w="792163" h="2374900">
                <a:moveTo>
                  <a:pt x="396081" y="0"/>
                </a:moveTo>
                <a:cubicBezTo>
                  <a:pt x="587131" y="0"/>
                  <a:pt x="750954" y="408860"/>
                  <a:pt x="785597" y="972131"/>
                </a:cubicBezTo>
                <a:cubicBezTo>
                  <a:pt x="794936" y="1123976"/>
                  <a:pt x="794307" y="1279824"/>
                  <a:pt x="783746" y="1430948"/>
                </a:cubicBezTo>
                <a:cubicBezTo>
                  <a:pt x="740167" y="2054543"/>
                  <a:pt x="540197" y="2463892"/>
                  <a:pt x="330601" y="2358561"/>
                </a:cubicBezTo>
                <a:lnTo>
                  <a:pt x="396082" y="1187450"/>
                </a:lnTo>
                <a:cubicBezTo>
                  <a:pt x="396082" y="791633"/>
                  <a:pt x="396081" y="395817"/>
                  <a:pt x="396081" y="0"/>
                </a:cubicBezTo>
                <a:close/>
              </a:path>
              <a:path fill="none" w="792163" h="2374900">
                <a:moveTo>
                  <a:pt x="396081" y="0"/>
                </a:moveTo>
                <a:cubicBezTo>
                  <a:pt x="587131" y="0"/>
                  <a:pt x="750954" y="408860"/>
                  <a:pt x="785597" y="972131"/>
                </a:cubicBezTo>
                <a:cubicBezTo>
                  <a:pt x="794936" y="1123976"/>
                  <a:pt x="794307" y="1279824"/>
                  <a:pt x="783746" y="1430948"/>
                </a:cubicBezTo>
                <a:cubicBezTo>
                  <a:pt x="740167" y="2054543"/>
                  <a:pt x="540197" y="2463892"/>
                  <a:pt x="330601" y="235856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弧形 2"/>
          <p:cNvSpPr/>
          <p:nvPr/>
        </p:nvSpPr>
        <p:spPr>
          <a:xfrm flipV="1" rot="20504400">
            <a:off x="4177800" y="5235480"/>
            <a:ext cx="1484280" cy="418680"/>
          </a:xfrm>
          <a:custGeom>
            <a:avLst/>
            <a:gdLst/>
            <a:ahLst/>
            <a:rect l="l" t="t" r="r" b="b"/>
            <a:pathLst>
              <a:path stroke="0" w="1484313" h="419100">
                <a:moveTo>
                  <a:pt x="27722" y="266288"/>
                </a:moveTo>
                <a:cubicBezTo>
                  <a:pt x="-90600" y="147509"/>
                  <a:pt x="178352" y="25720"/>
                  <a:pt x="608171" y="3444"/>
                </a:cubicBezTo>
                <a:cubicBezTo>
                  <a:pt x="689524" y="-772"/>
                  <a:pt x="772800" y="-1119"/>
                  <a:pt x="854558" y="2418"/>
                </a:cubicBezTo>
                <a:cubicBezTo>
                  <a:pt x="1216810" y="18090"/>
                  <a:pt x="1484315" y="106074"/>
                  <a:pt x="1484315" y="209551"/>
                </a:cubicBezTo>
                <a:lnTo>
                  <a:pt x="742157" y="209550"/>
                </a:lnTo>
                <a:lnTo>
                  <a:pt x="27722" y="266288"/>
                </a:lnTo>
                <a:close/>
              </a:path>
              <a:path fill="none" w="1484313" h="419100">
                <a:moveTo>
                  <a:pt x="27722" y="266288"/>
                </a:moveTo>
                <a:cubicBezTo>
                  <a:pt x="-90600" y="147509"/>
                  <a:pt x="178352" y="25720"/>
                  <a:pt x="608171" y="3444"/>
                </a:cubicBezTo>
                <a:cubicBezTo>
                  <a:pt x="689524" y="-772"/>
                  <a:pt x="772800" y="-1119"/>
                  <a:pt x="854558" y="2418"/>
                </a:cubicBezTo>
                <a:cubicBezTo>
                  <a:pt x="1216810" y="18090"/>
                  <a:pt x="1484315" y="106074"/>
                  <a:pt x="1484315" y="20955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弧形 3"/>
          <p:cNvSpPr/>
          <p:nvPr/>
        </p:nvSpPr>
        <p:spPr>
          <a:xfrm rot="19126800">
            <a:off x="3892320" y="1692000"/>
            <a:ext cx="982440" cy="2973240"/>
          </a:xfrm>
          <a:custGeom>
            <a:avLst/>
            <a:gdLst/>
            <a:ahLst/>
            <a:rect l="l" t="t" r="r" b="b"/>
            <a:pathLst>
              <a:path stroke="0" w="982663" h="2973388">
                <a:moveTo>
                  <a:pt x="491331" y="0"/>
                </a:moveTo>
                <a:cubicBezTo>
                  <a:pt x="762554" y="0"/>
                  <a:pt x="982476" y="664991"/>
                  <a:pt x="982663" y="1485669"/>
                </a:cubicBezTo>
                <a:cubicBezTo>
                  <a:pt x="982848" y="2299829"/>
                  <a:pt x="766579" y="2962995"/>
                  <a:pt x="497531" y="2973269"/>
                </a:cubicBezTo>
                <a:cubicBezTo>
                  <a:pt x="495465" y="2477744"/>
                  <a:pt x="493398" y="1982219"/>
                  <a:pt x="491332" y="1486694"/>
                </a:cubicBezTo>
                <a:cubicBezTo>
                  <a:pt x="491332" y="991129"/>
                  <a:pt x="491331" y="495565"/>
                  <a:pt x="491331" y="0"/>
                </a:cubicBezTo>
                <a:close/>
              </a:path>
              <a:path fill="none" w="982663" h="2973388">
                <a:moveTo>
                  <a:pt x="491331" y="0"/>
                </a:moveTo>
                <a:cubicBezTo>
                  <a:pt x="762554" y="0"/>
                  <a:pt x="982476" y="664991"/>
                  <a:pt x="982663" y="1485669"/>
                </a:cubicBezTo>
                <a:cubicBezTo>
                  <a:pt x="982848" y="2299829"/>
                  <a:pt x="766579" y="2962995"/>
                  <a:pt x="497531" y="2973269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4" descr=""/>
          <p:cNvPicPr/>
          <p:nvPr/>
        </p:nvPicPr>
        <p:blipFill>
          <a:blip r:embed="rId1"/>
          <a:srcRect l="11394" t="15475" r="15886" b="6689"/>
          <a:stretch/>
        </p:blipFill>
        <p:spPr>
          <a:xfrm>
            <a:off x="5622840" y="1287360"/>
            <a:ext cx="3313080" cy="4727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外部接线说明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输出接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9280" y="5962680"/>
            <a:ext cx="87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字量输出连接实验台上的交通灯控制模块相连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4" name="Picture 8" descr="可编程序控制器面板"/>
          <p:cNvPicPr/>
          <p:nvPr/>
        </p:nvPicPr>
        <p:blipFill>
          <a:blip r:embed="rId2"/>
          <a:srcRect l="36409" t="2091" r="17965" b="67546"/>
          <a:stretch/>
        </p:blipFill>
        <p:spPr>
          <a:xfrm>
            <a:off x="735120" y="1401840"/>
            <a:ext cx="4351320" cy="2171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电源板"/>
          <p:cNvPicPr/>
          <p:nvPr/>
        </p:nvPicPr>
        <p:blipFill>
          <a:blip r:embed="rId3"/>
          <a:srcRect l="14842" t="47121" r="68162" b="21071"/>
          <a:stretch/>
        </p:blipFill>
        <p:spPr>
          <a:xfrm>
            <a:off x="984240" y="3711600"/>
            <a:ext cx="1682640" cy="2360520"/>
          </a:xfrm>
          <a:prstGeom prst="rect">
            <a:avLst/>
          </a:prstGeom>
          <a:ln w="0">
            <a:noFill/>
          </a:ln>
        </p:spPr>
      </p:pic>
      <p:sp>
        <p:nvSpPr>
          <p:cNvPr id="146" name="弧形 1"/>
          <p:cNvSpPr/>
          <p:nvPr/>
        </p:nvSpPr>
        <p:spPr>
          <a:xfrm flipH="1" rot="16353000">
            <a:off x="3493080" y="3357000"/>
            <a:ext cx="790560" cy="4824360"/>
          </a:xfrm>
          <a:custGeom>
            <a:avLst/>
            <a:gdLst/>
            <a:ahLst/>
            <a:rect l="l" t="t" r="r" b="b"/>
            <a:pathLst>
              <a:path stroke="0" w="790575" h="4824413">
                <a:moveTo>
                  <a:pt x="395287" y="0"/>
                </a:moveTo>
                <a:cubicBezTo>
                  <a:pt x="599197" y="0"/>
                  <a:pt x="769646" y="946519"/>
                  <a:pt x="788823" y="2185343"/>
                </a:cubicBezTo>
                <a:cubicBezTo>
                  <a:pt x="791164" y="2336592"/>
                  <a:pt x="791159" y="2488852"/>
                  <a:pt x="788807" y="2640095"/>
                </a:cubicBezTo>
                <a:cubicBezTo>
                  <a:pt x="769377" y="3889550"/>
                  <a:pt x="596189" y="4839325"/>
                  <a:pt x="390535" y="4824239"/>
                </a:cubicBezTo>
                <a:cubicBezTo>
                  <a:pt x="392119" y="4020228"/>
                  <a:pt x="393704" y="3216218"/>
                  <a:pt x="395288" y="2412207"/>
                </a:cubicBezTo>
                <a:cubicBezTo>
                  <a:pt x="395288" y="1608138"/>
                  <a:pt x="395287" y="804069"/>
                  <a:pt x="395287" y="0"/>
                </a:cubicBezTo>
                <a:close/>
              </a:path>
              <a:path fill="none" w="790575" h="4824413">
                <a:moveTo>
                  <a:pt x="395287" y="0"/>
                </a:moveTo>
                <a:cubicBezTo>
                  <a:pt x="599197" y="0"/>
                  <a:pt x="769646" y="946519"/>
                  <a:pt x="788823" y="2185343"/>
                </a:cubicBezTo>
                <a:cubicBezTo>
                  <a:pt x="791164" y="2336592"/>
                  <a:pt x="791159" y="2488852"/>
                  <a:pt x="788807" y="2640095"/>
                </a:cubicBezTo>
                <a:cubicBezTo>
                  <a:pt x="769377" y="3889550"/>
                  <a:pt x="596189" y="4839325"/>
                  <a:pt x="390535" y="4824239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弧形 2"/>
          <p:cNvSpPr/>
          <p:nvPr/>
        </p:nvSpPr>
        <p:spPr>
          <a:xfrm rot="187800">
            <a:off x="2157480" y="5138280"/>
            <a:ext cx="4649760" cy="1386000"/>
          </a:xfrm>
          <a:custGeom>
            <a:avLst/>
            <a:gdLst/>
            <a:ahLst/>
            <a:rect l="l" t="t" r="r" b="b"/>
            <a:pathLst>
              <a:path stroke="0" w="4649787" h="1385887">
                <a:moveTo>
                  <a:pt x="4142" y="734290"/>
                </a:moveTo>
                <a:cubicBezTo>
                  <a:pt x="-75192" y="338701"/>
                  <a:pt x="972714" y="3891"/>
                  <a:pt x="2302259" y="33"/>
                </a:cubicBezTo>
                <a:cubicBezTo>
                  <a:pt x="3453447" y="-3308"/>
                  <a:pt x="4439477" y="244967"/>
                  <a:pt x="4620777" y="583818"/>
                </a:cubicBezTo>
                <a:lnTo>
                  <a:pt x="2324894" y="692944"/>
                </a:lnTo>
                <a:lnTo>
                  <a:pt x="4142" y="734290"/>
                </a:lnTo>
                <a:close/>
              </a:path>
              <a:path fill="none" w="4649787" h="1385887">
                <a:moveTo>
                  <a:pt x="4142" y="734290"/>
                </a:moveTo>
                <a:cubicBezTo>
                  <a:pt x="-75192" y="338701"/>
                  <a:pt x="972714" y="3891"/>
                  <a:pt x="2302259" y="33"/>
                </a:cubicBezTo>
                <a:cubicBezTo>
                  <a:pt x="3453447" y="-3308"/>
                  <a:pt x="4439477" y="244967"/>
                  <a:pt x="4620777" y="583818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弧形 3"/>
          <p:cNvSpPr/>
          <p:nvPr/>
        </p:nvSpPr>
        <p:spPr>
          <a:xfrm rot="17998800">
            <a:off x="2909880" y="465840"/>
            <a:ext cx="1236600" cy="6116760"/>
          </a:xfrm>
          <a:custGeom>
            <a:avLst/>
            <a:gdLst/>
            <a:ahLst/>
            <a:rect l="l" t="t" r="r" b="b"/>
            <a:pathLst>
              <a:path stroke="0" w="1236662" h="6116638">
                <a:moveTo>
                  <a:pt x="618331" y="0"/>
                </a:moveTo>
                <a:cubicBezTo>
                  <a:pt x="959724" y="0"/>
                  <a:pt x="1236518" y="1368470"/>
                  <a:pt x="1236662" y="3057030"/>
                </a:cubicBezTo>
                <a:cubicBezTo>
                  <a:pt x="1236804" y="4722012"/>
                  <a:pt x="967638" y="6081648"/>
                  <a:pt x="631084" y="6115988"/>
                </a:cubicBezTo>
                <a:lnTo>
                  <a:pt x="618331" y="3058319"/>
                </a:lnTo>
                <a:lnTo>
                  <a:pt x="618331" y="0"/>
                </a:lnTo>
                <a:close/>
              </a:path>
              <a:path fill="none" w="1236662" h="6116638">
                <a:moveTo>
                  <a:pt x="618331" y="0"/>
                </a:moveTo>
                <a:cubicBezTo>
                  <a:pt x="959724" y="0"/>
                  <a:pt x="1236518" y="1368470"/>
                  <a:pt x="1236662" y="3057030"/>
                </a:cubicBezTo>
                <a:cubicBezTo>
                  <a:pt x="1236804" y="4722012"/>
                  <a:pt x="967638" y="6081648"/>
                  <a:pt x="631084" y="6115988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弧形 11"/>
          <p:cNvSpPr/>
          <p:nvPr/>
        </p:nvSpPr>
        <p:spPr>
          <a:xfrm flipV="1" rot="3641400">
            <a:off x="122760" y="3975480"/>
            <a:ext cx="2948040" cy="923400"/>
          </a:xfrm>
          <a:custGeom>
            <a:avLst/>
            <a:gdLst/>
            <a:ahLst/>
            <a:rect l="l" t="t" r="r" b="b"/>
            <a:pathLst>
              <a:path stroke="0" w="2947987" h="923925">
                <a:moveTo>
                  <a:pt x="2376" y="488181"/>
                </a:moveTo>
                <a:cubicBezTo>
                  <a:pt x="-45353" y="225032"/>
                  <a:pt x="617959" y="2722"/>
                  <a:pt x="1458904" y="24"/>
                </a:cubicBezTo>
                <a:cubicBezTo>
                  <a:pt x="2193307" y="-2332"/>
                  <a:pt x="2821198" y="165116"/>
                  <a:pt x="2931323" y="392694"/>
                </a:cubicBezTo>
                <a:lnTo>
                  <a:pt x="1473994" y="461963"/>
                </a:lnTo>
                <a:lnTo>
                  <a:pt x="2376" y="488181"/>
                </a:lnTo>
                <a:close/>
              </a:path>
              <a:path fill="none" w="2947987" h="923925">
                <a:moveTo>
                  <a:pt x="2376" y="488181"/>
                </a:moveTo>
                <a:cubicBezTo>
                  <a:pt x="-45353" y="225032"/>
                  <a:pt x="617959" y="2722"/>
                  <a:pt x="1458904" y="24"/>
                </a:cubicBezTo>
                <a:cubicBezTo>
                  <a:pt x="2193307" y="-2332"/>
                  <a:pt x="2821198" y="165116"/>
                  <a:pt x="2931323" y="39269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总结报告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8360" y="1309320"/>
            <a:ext cx="792000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写程序对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配表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绘制外部接线图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录所设计程序的流程图与梯形图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00000" y="2133720"/>
          <a:ext cx="7128000" cy="1049040"/>
        </p:xfrm>
        <a:graphic>
          <a:graphicData uri="http://schemas.openxmlformats.org/drawingml/2006/table">
            <a:tbl>
              <a:tblPr/>
              <a:tblGrid>
                <a:gridCol w="1782720"/>
                <a:gridCol w="1781280"/>
                <a:gridCol w="1782720"/>
                <a:gridCol w="1781280"/>
              </a:tblGrid>
              <a:tr h="525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输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aa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aa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输出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aa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aae"/>
                    </a:solidFill>
                  </a:tcPr>
                </a:tc>
              </a:tr>
              <a:tr h="523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0.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Q0.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e3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内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588000" y="2516760"/>
            <a:ext cx="3889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250920" y="1702080"/>
            <a:ext cx="87138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控制要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控制要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基础上增添“夜间模式”功能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夜间模式”开关闭合：东西南北方向所有灯均为黄灯闪烁，一秒闪烁一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144360" y="4389840"/>
            <a:ext cx="8712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控制要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控制要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基础上增添“强制开通”功能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夜间模式”开关闭合：东西南北方向所有灯均为黄灯闪烁，一秒闪烁一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装置概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588000" y="2516760"/>
            <a:ext cx="3889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69800" y="2142720"/>
            <a:ext cx="22305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台提供两种按钮，可用作数字量输入部分电路连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Picture 6" descr="输入输出设备"/>
          <p:cNvPicPr/>
          <p:nvPr/>
        </p:nvPicPr>
        <p:blipFill>
          <a:blip r:embed="rId1"/>
          <a:srcRect l="10604" t="4529" r="9815" b="4523"/>
          <a:stretch/>
        </p:blipFill>
        <p:spPr>
          <a:xfrm>
            <a:off x="2717640" y="1360440"/>
            <a:ext cx="5942160" cy="5092920"/>
          </a:xfrm>
          <a:prstGeom prst="rect">
            <a:avLst/>
          </a:prstGeom>
          <a:ln w="0">
            <a:noFill/>
          </a:ln>
        </p:spPr>
      </p:pic>
      <p:sp>
        <p:nvSpPr>
          <p:cNvPr id="94" name="圆角矩形 1"/>
          <p:cNvSpPr/>
          <p:nvPr/>
        </p:nvSpPr>
        <p:spPr>
          <a:xfrm>
            <a:off x="2987640" y="3716280"/>
            <a:ext cx="2808360" cy="93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圆角矩形 7"/>
          <p:cNvSpPr/>
          <p:nvPr/>
        </p:nvSpPr>
        <p:spPr>
          <a:xfrm>
            <a:off x="2881440" y="4724280"/>
            <a:ext cx="2808000" cy="136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装置概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52360" y="1403640"/>
            <a:ext cx="8496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台提供西门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7-200 PL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 226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块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27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拟量输入输出模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588000" y="2516760"/>
            <a:ext cx="3889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8" descr="可编程序控制器面板"/>
          <p:cNvPicPr/>
          <p:nvPr/>
        </p:nvPicPr>
        <p:blipFill>
          <a:blip r:embed="rId1"/>
          <a:srcRect l="13094" t="0" r="4616" b="4331"/>
          <a:stretch/>
        </p:blipFill>
        <p:spPr>
          <a:xfrm>
            <a:off x="684360" y="44280"/>
            <a:ext cx="7962840" cy="6942240"/>
          </a:xfrm>
          <a:prstGeom prst="rect">
            <a:avLst/>
          </a:prstGeom>
          <a:ln w="0">
            <a:noFill/>
          </a:ln>
        </p:spPr>
      </p:pic>
      <p:sp>
        <p:nvSpPr>
          <p:cNvPr id="101" name="圆角矩形 1"/>
          <p:cNvSpPr/>
          <p:nvPr/>
        </p:nvSpPr>
        <p:spPr>
          <a:xfrm>
            <a:off x="1692360" y="2492280"/>
            <a:ext cx="5040360" cy="23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圆角矩形 7"/>
          <p:cNvSpPr/>
          <p:nvPr/>
        </p:nvSpPr>
        <p:spPr>
          <a:xfrm>
            <a:off x="6804000" y="2492280"/>
            <a:ext cx="1841400" cy="2305080"/>
          </a:xfrm>
          <a:custGeom>
            <a:avLst/>
            <a:gdLst>
              <a:gd name="textAreaLeft" fmla="*/ 89640 w 1841400"/>
              <a:gd name="textAreaRight" fmla="*/ 1751760 w 1841400"/>
              <a:gd name="textAreaTop" fmla="*/ 89640 h 2305080"/>
              <a:gd name="textAreaBottom" fmla="*/ 2215440 h 2305080"/>
            </a:gdLst>
            <a:ahLst/>
            <a:rect l="textAreaLeft" t="textAreaTop" r="textAreaRight" b="textAreaBottom"/>
            <a:pathLst>
              <a:path w="21600" h="27038">
                <a:moveTo>
                  <a:pt x="3600" y="0"/>
                </a:moveTo>
                <a:arcTo wR="3600" hR="3600" stAng="16200000" swAng="-5400000"/>
                <a:lnTo>
                  <a:pt x="0" y="23438"/>
                </a:lnTo>
                <a:arcTo wR="3600" hR="3600" stAng="10800000" swAng="-5400000"/>
                <a:lnTo>
                  <a:pt x="18000" y="270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圆角矩形 8"/>
          <p:cNvSpPr/>
          <p:nvPr/>
        </p:nvSpPr>
        <p:spPr>
          <a:xfrm>
            <a:off x="1042920" y="4941720"/>
            <a:ext cx="5473800" cy="180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圆角矩形 9"/>
          <p:cNvSpPr/>
          <p:nvPr/>
        </p:nvSpPr>
        <p:spPr>
          <a:xfrm>
            <a:off x="6588000" y="4951440"/>
            <a:ext cx="1627200" cy="1800360"/>
          </a:xfrm>
          <a:custGeom>
            <a:avLst/>
            <a:gdLst>
              <a:gd name="textAreaLeft" fmla="*/ 79200 w 1627200"/>
              <a:gd name="textAreaRight" fmla="*/ 1548000 w 1627200"/>
              <a:gd name="textAreaTop" fmla="*/ 79200 h 1800360"/>
              <a:gd name="textAreaBottom" fmla="*/ 1721160 h 1800360"/>
            </a:gdLst>
            <a:ahLst/>
            <a:rect l="textAreaLeft" t="textAreaTop" r="textAreaRight" b="textAreaBottom"/>
            <a:pathLst>
              <a:path w="21600" h="23898">
                <a:moveTo>
                  <a:pt x="3600" y="0"/>
                </a:moveTo>
                <a:arcTo wR="3600" hR="3600" stAng="16200000" swAng="-5400000"/>
                <a:lnTo>
                  <a:pt x="0" y="20298"/>
                </a:lnTo>
                <a:arcTo wR="3600" hR="3600" stAng="10800000" swAng="-5400000"/>
                <a:lnTo>
                  <a:pt x="18000" y="23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圆角矩形 10"/>
          <p:cNvSpPr/>
          <p:nvPr/>
        </p:nvSpPr>
        <p:spPr>
          <a:xfrm>
            <a:off x="2700360" y="171360"/>
            <a:ext cx="4608360" cy="196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圆角矩形 11"/>
          <p:cNvSpPr/>
          <p:nvPr/>
        </p:nvSpPr>
        <p:spPr>
          <a:xfrm>
            <a:off x="7402680" y="333360"/>
            <a:ext cx="812520" cy="1933560"/>
          </a:xfrm>
          <a:custGeom>
            <a:avLst/>
            <a:gdLst>
              <a:gd name="textAreaLeft" fmla="*/ 39600 w 812520"/>
              <a:gd name="textAreaRight" fmla="*/ 772920 w 812520"/>
              <a:gd name="textAreaTop" fmla="*/ 39600 h 1933560"/>
              <a:gd name="textAreaBottom" fmla="*/ 1893960 h 1933560"/>
            </a:gdLst>
            <a:ahLst/>
            <a:rect l="textAreaLeft" t="textAreaTop" r="textAreaRight" b="textAreaBottom"/>
            <a:pathLst>
              <a:path w="21600" h="51388">
                <a:moveTo>
                  <a:pt x="3600" y="0"/>
                </a:moveTo>
                <a:arcTo wR="3600" hR="3600" stAng="16200000" swAng="-5400000"/>
                <a:lnTo>
                  <a:pt x="0" y="47788"/>
                </a:lnTo>
                <a:arcTo wR="3600" hR="3600" stAng="10800000" swAng="-5400000"/>
                <a:lnTo>
                  <a:pt x="18000" y="51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圆角矩形 15"/>
          <p:cNvSpPr/>
          <p:nvPr/>
        </p:nvSpPr>
        <p:spPr>
          <a:xfrm>
            <a:off x="1187280" y="620640"/>
            <a:ext cx="122400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 rot="16200000">
            <a:off x="1464840" y="1030680"/>
            <a:ext cx="66780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14840" y="1736280"/>
            <a:ext cx="521496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四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应用实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交通灯控制实验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826920" y="476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目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395280" y="2124000"/>
            <a:ext cx="82803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lnSpc>
                <a:spcPct val="14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7-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结构和外部接线方法，了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VT-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装置的结构及使用方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266760">
              <a:lnSpc>
                <a:spcPct val="14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7-Micro/wi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程软件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联调过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266760">
              <a:lnSpc>
                <a:spcPct val="14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设计交通信号灯控制程序，掌握梯型图编程操作方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仪器及设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588000" y="2516760"/>
            <a:ext cx="3889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1374840"/>
          <a:ext cx="8569440" cy="5262480"/>
        </p:xfrm>
        <a:graphic>
          <a:graphicData uri="http://schemas.openxmlformats.org/drawingml/2006/table">
            <a:tbl>
              <a:tblPr/>
              <a:tblGrid>
                <a:gridCol w="6230880"/>
                <a:gridCol w="233856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设备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模块（西门子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7-2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系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22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型）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计算机（安装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编程软件）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台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T90HC-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通灯自控与手控模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字量输入输出模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编程通信电缆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根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线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若干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图片 13" descr=""/>
          <p:cNvPicPr/>
          <p:nvPr/>
        </p:nvPicPr>
        <p:blipFill>
          <a:blip r:embed="rId1"/>
          <a:srcRect l="11171" t="217" r="16100" b="6468"/>
          <a:stretch/>
        </p:blipFill>
        <p:spPr>
          <a:xfrm>
            <a:off x="4778280" y="-316080"/>
            <a:ext cx="4157640" cy="7112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内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588000" y="2516760"/>
            <a:ext cx="3889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250920" y="2295360"/>
            <a:ext cx="871380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控制要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动”开关闭合：东西方向绿灯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，黄灯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，红灯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绿灯亮，如此循环。对应东西方向绿、黄灯亮时，南北方向红灯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接着绿灯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，黄灯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红灯又亮，如此循环。（绿灯闪烁每秒一次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停止”开关闭合：系统停止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85880" y="47628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实验步骤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588000" y="2516760"/>
            <a:ext cx="3889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108000" y="1008360"/>
            <a:ext cx="902484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配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配表，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部接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电接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注意数字量输入公共端连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 24V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依据控制要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设计程序流程图，根据流程输入梯形图，调试成功后，将程序下载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行程序，并观察运行结果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00000" y="1947960"/>
          <a:ext cx="7128000" cy="1049400"/>
        </p:xfrm>
        <a:graphic>
          <a:graphicData uri="http://schemas.openxmlformats.org/drawingml/2006/table">
            <a:tbl>
              <a:tblPr/>
              <a:tblGrid>
                <a:gridCol w="1782720"/>
                <a:gridCol w="1781280"/>
                <a:gridCol w="1782720"/>
                <a:gridCol w="1781280"/>
              </a:tblGrid>
              <a:tr h="525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输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aa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aa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输出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aa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功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aae"/>
                    </a:solidFill>
                  </a:tcPr>
                </a:tc>
              </a:tr>
              <a:tr h="52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I0.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Q0.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e3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785880" y="54936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外部接线说明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——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结构原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直接连接符 12"/>
          <p:cNvSpPr/>
          <p:nvPr/>
        </p:nvSpPr>
        <p:spPr>
          <a:xfrm>
            <a:off x="428760" y="1285920"/>
            <a:ext cx="8001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-115920" y="1287360"/>
            <a:ext cx="9367920" cy="545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3:57:49Z</dcterms:created>
  <dc:creator>zlq</dc:creator>
  <dc:description/>
  <dc:language>en-US</dc:language>
  <cp:lastModifiedBy>USER</cp:lastModifiedBy>
  <dcterms:modified xsi:type="dcterms:W3CDTF">2015-12-28T02:24:49Z</dcterms:modified>
  <cp:revision>441</cp:revision>
  <dc:subject/>
  <dc:title>第1讲    专业词汇的特点 1 本专业特有的形式 Lightning rod  Transfer switching Lighting arrester Disconnection switch Substation dielectric</dc:title>
</cp:coreProperties>
</file>