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9D2-B0AF-435E-BF37-2D848778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E4B-A85C-44DF-BEB7-300A1F96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54F-56EB-463F-94C6-CCAC6070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F39-AB7A-4DD4-880B-694F1937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D6AB-6609-4A5E-8B59-ED496E08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2940-EC17-413A-8991-A90C028B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FCF5-685F-42CF-9ED0-32CDC7E0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2A4B-E409-4BF9-ACAA-41309874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2DAF-AFE6-4C8A-B359-31B2835B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0795-4EF1-4599-BFE3-DFC0F1DE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DBEF-7828-40DF-B547-29415180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8F9-4BEA-4791-83EC-47E2959E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6B2-10BB-45DB-9297-F956C98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99B6-6AB5-4D05-983F-786398E7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16F6-4259-4889-A0DE-B791FA3D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D7DB-F198-46F2-81BD-0A3052B5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5C88-B411-40DF-BAE4-AC94C6EC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493-62E1-4668-A4EB-79C91F80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F98-CE7C-4FA6-A60D-6645C937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4D1-DE91-4C97-AB96-9A956217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DFE-FE24-4A22-8225-7CC10C0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580-0AD7-4427-BF48-65D9CBF7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1EE-A1B2-48D0-8F33-B0CFF72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C7C-2CD9-4F84-B308-3D41109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181B-A1DD-400E-8DBF-8A9D865660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2544-E98B-4499-AA6E-B1E1688B6CC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4840" y="1736280"/>
            <a:ext cx="521496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实验一  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可编程序控制器基本指令的训练（一）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26920" y="47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目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539640" y="1947600"/>
            <a:ext cx="792000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lnSpc>
                <a:spcPct val="14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7-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构和外部接线方法，熟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VT-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装置的结构及使用方法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266760">
              <a:lnSpc>
                <a:spcPct val="14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7-Micro/w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程软件，熟悉编译调试软件的使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266760">
              <a:lnSpc>
                <a:spcPct val="14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用基本逻辑与、或、非等指令实现基本逻辑组合电路的编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266760">
              <a:lnSpc>
                <a:spcPct val="14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常用定时器、计数器指令的使用方法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装置通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23920" y="2575440"/>
            <a:ext cx="29638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闭合实验台空气断路器，并打开其左侧的两个船型开关，在图示位置可得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V D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Picture 7" descr="电源板"/>
          <p:cNvPicPr/>
          <p:nvPr/>
        </p:nvPicPr>
        <p:blipFill>
          <a:blip r:embed="rId1"/>
          <a:srcRect l="8795" t="0" r="7682" b="3742"/>
          <a:stretch/>
        </p:blipFill>
        <p:spPr>
          <a:xfrm>
            <a:off x="3203640" y="1355760"/>
            <a:ext cx="5776920" cy="4992480"/>
          </a:xfrm>
          <a:prstGeom prst="rect">
            <a:avLst/>
          </a:prstGeom>
          <a:ln w="0">
            <a:noFill/>
          </a:ln>
        </p:spPr>
      </p:pic>
      <p:sp>
        <p:nvSpPr>
          <p:cNvPr id="90" name="椭圆 1"/>
          <p:cNvSpPr/>
          <p:nvPr/>
        </p:nvSpPr>
        <p:spPr>
          <a:xfrm>
            <a:off x="6875640" y="2349360"/>
            <a:ext cx="1657080" cy="1374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椭圆 6"/>
          <p:cNvSpPr/>
          <p:nvPr/>
        </p:nvSpPr>
        <p:spPr>
          <a:xfrm>
            <a:off x="3527280" y="2357280"/>
            <a:ext cx="2700360" cy="1216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椭圆 7"/>
          <p:cNvSpPr/>
          <p:nvPr/>
        </p:nvSpPr>
        <p:spPr>
          <a:xfrm>
            <a:off x="3635280" y="4653000"/>
            <a:ext cx="1116000" cy="7920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装置概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69800" y="2142720"/>
            <a:ext cx="22305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台提供两种按钮，可用作数字量输入部分电路连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Picture 6" descr="输入输出设备"/>
          <p:cNvPicPr/>
          <p:nvPr/>
        </p:nvPicPr>
        <p:blipFill>
          <a:blip r:embed="rId1"/>
          <a:srcRect l="10604" t="4529" r="9815" b="4523"/>
          <a:stretch/>
        </p:blipFill>
        <p:spPr>
          <a:xfrm>
            <a:off x="2717640" y="1360440"/>
            <a:ext cx="5942160" cy="5092920"/>
          </a:xfrm>
          <a:prstGeom prst="rect">
            <a:avLst/>
          </a:prstGeom>
          <a:ln w="0">
            <a:noFill/>
          </a:ln>
        </p:spPr>
      </p:pic>
      <p:sp>
        <p:nvSpPr>
          <p:cNvPr id="98" name="圆角矩形 1"/>
          <p:cNvSpPr/>
          <p:nvPr/>
        </p:nvSpPr>
        <p:spPr>
          <a:xfrm>
            <a:off x="2987640" y="3716280"/>
            <a:ext cx="2808360" cy="93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圆角矩形 7"/>
          <p:cNvSpPr/>
          <p:nvPr/>
        </p:nvSpPr>
        <p:spPr>
          <a:xfrm>
            <a:off x="2881440" y="4724280"/>
            <a:ext cx="2808000" cy="136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装置概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52360" y="1403640"/>
            <a:ext cx="8496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台提供西门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7-200 PL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 226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块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27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拟量输入输出模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8" descr="可编程序控制器面板"/>
          <p:cNvPicPr/>
          <p:nvPr/>
        </p:nvPicPr>
        <p:blipFill>
          <a:blip r:embed="rId1"/>
          <a:srcRect l="13094" t="0" r="4616" b="4331"/>
          <a:stretch/>
        </p:blipFill>
        <p:spPr>
          <a:xfrm>
            <a:off x="684360" y="44280"/>
            <a:ext cx="7962840" cy="6942240"/>
          </a:xfrm>
          <a:prstGeom prst="rect">
            <a:avLst/>
          </a:prstGeom>
          <a:ln w="0">
            <a:noFill/>
          </a:ln>
        </p:spPr>
      </p:pic>
      <p:sp>
        <p:nvSpPr>
          <p:cNvPr id="105" name="圆角矩形 1"/>
          <p:cNvSpPr/>
          <p:nvPr/>
        </p:nvSpPr>
        <p:spPr>
          <a:xfrm>
            <a:off x="1692360" y="2492280"/>
            <a:ext cx="504036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圆角矩形 7"/>
          <p:cNvSpPr/>
          <p:nvPr/>
        </p:nvSpPr>
        <p:spPr>
          <a:xfrm>
            <a:off x="6804000" y="2492280"/>
            <a:ext cx="1841400" cy="2305080"/>
          </a:xfrm>
          <a:custGeom>
            <a:avLst/>
            <a:gdLst>
              <a:gd name="textAreaLeft" fmla="*/ 89640 w 1841400"/>
              <a:gd name="textAreaRight" fmla="*/ 1751760 w 1841400"/>
              <a:gd name="textAreaTop" fmla="*/ 89640 h 2305080"/>
              <a:gd name="textAreaBottom" fmla="*/ 2215440 h 2305080"/>
            </a:gdLst>
            <a:ahLst/>
            <a:rect l="textAreaLeft" t="textAreaTop" r="textAreaRight" b="textAreaBottom"/>
            <a:pathLst>
              <a:path w="21600" h="27038">
                <a:moveTo>
                  <a:pt x="3600" y="0"/>
                </a:moveTo>
                <a:arcTo wR="3600" hR="3600" stAng="16200000" swAng="-5400000"/>
                <a:lnTo>
                  <a:pt x="0" y="23438"/>
                </a:lnTo>
                <a:arcTo wR="3600" hR="3600" stAng="10800000" swAng="-5400000"/>
                <a:lnTo>
                  <a:pt x="18000" y="270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圆角矩形 8"/>
          <p:cNvSpPr/>
          <p:nvPr/>
        </p:nvSpPr>
        <p:spPr>
          <a:xfrm>
            <a:off x="1042920" y="4941720"/>
            <a:ext cx="5473800" cy="180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圆角矩形 9"/>
          <p:cNvSpPr/>
          <p:nvPr/>
        </p:nvSpPr>
        <p:spPr>
          <a:xfrm>
            <a:off x="6588000" y="4951440"/>
            <a:ext cx="1627200" cy="1800360"/>
          </a:xfrm>
          <a:custGeom>
            <a:avLst/>
            <a:gdLst>
              <a:gd name="textAreaLeft" fmla="*/ 79200 w 1627200"/>
              <a:gd name="textAreaRight" fmla="*/ 1548000 w 1627200"/>
              <a:gd name="textAreaTop" fmla="*/ 79200 h 1800360"/>
              <a:gd name="textAreaBottom" fmla="*/ 1721160 h 1800360"/>
            </a:gdLst>
            <a:ahLst/>
            <a:rect l="textAreaLeft" t="textAreaTop" r="textAreaRight" b="textAreaBottom"/>
            <a:pathLst>
              <a:path w="21600" h="23898">
                <a:moveTo>
                  <a:pt x="3600" y="0"/>
                </a:moveTo>
                <a:arcTo wR="3600" hR="3600" stAng="16200000" swAng="-5400000"/>
                <a:lnTo>
                  <a:pt x="0" y="20298"/>
                </a:lnTo>
                <a:arcTo wR="3600" hR="3600" stAng="10800000" swAng="-5400000"/>
                <a:lnTo>
                  <a:pt x="18000" y="23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圆角矩形 10"/>
          <p:cNvSpPr/>
          <p:nvPr/>
        </p:nvSpPr>
        <p:spPr>
          <a:xfrm>
            <a:off x="2700360" y="171360"/>
            <a:ext cx="4608360" cy="196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圆角矩形 11"/>
          <p:cNvSpPr/>
          <p:nvPr/>
        </p:nvSpPr>
        <p:spPr>
          <a:xfrm>
            <a:off x="7402680" y="333360"/>
            <a:ext cx="812520" cy="1933560"/>
          </a:xfrm>
          <a:custGeom>
            <a:avLst/>
            <a:gdLst>
              <a:gd name="textAreaLeft" fmla="*/ 39600 w 812520"/>
              <a:gd name="textAreaRight" fmla="*/ 772920 w 812520"/>
              <a:gd name="textAreaTop" fmla="*/ 39600 h 1933560"/>
              <a:gd name="textAreaBottom" fmla="*/ 1893960 h 1933560"/>
            </a:gdLst>
            <a:ahLst/>
            <a:rect l="textAreaLeft" t="textAreaTop" r="textAreaRight" b="textAreaBottom"/>
            <a:pathLst>
              <a:path w="21600" h="51388">
                <a:moveTo>
                  <a:pt x="3600" y="0"/>
                </a:moveTo>
                <a:arcTo wR="3600" hR="3600" stAng="16200000" swAng="-5400000"/>
                <a:lnTo>
                  <a:pt x="0" y="47788"/>
                </a:lnTo>
                <a:arcTo wR="3600" hR="3600" stAng="10800000" swAng="-5400000"/>
                <a:lnTo>
                  <a:pt x="18000" y="51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圆角矩形 15"/>
          <p:cNvSpPr/>
          <p:nvPr/>
        </p:nvSpPr>
        <p:spPr>
          <a:xfrm>
            <a:off x="1187280" y="620640"/>
            <a:ext cx="122400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 rot="16200000">
            <a:off x="1464840" y="1030680"/>
            <a:ext cx="66780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仪器及设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4360" y="1649520"/>
          <a:ext cx="7127640" cy="4316400"/>
        </p:xfrm>
        <a:graphic>
          <a:graphicData uri="http://schemas.openxmlformats.org/drawingml/2006/table">
            <a:tbl>
              <a:tblPr/>
              <a:tblGrid>
                <a:gridCol w="5182920"/>
                <a:gridCol w="19447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设备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模块（西门子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7-2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22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型）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计算机（已安装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7-Micro/wi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编程软件）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台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字量输入输出模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编程通信电缆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根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线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若干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85880" y="54936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原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50920" y="1724400"/>
            <a:ext cx="8461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微机技术与传统的继电接触控制技术相结合的产物。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系统中可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作一个执行逻辑功能的工业控制装置。它的等效电路可分为输入、内部控制和输出部分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395280" y="2670120"/>
          <a:ext cx="81374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70120"/>
                    <a:ext cx="81374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内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539640" y="1706040"/>
            <a:ext cx="777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基本指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编程操作训练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进入编译调试环境，用指令符或梯形图分别输入练习程序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~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根据程序，进行相应的连线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下载程序并运行，观察运行结果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定时器和计数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编程操作训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进入编译调试环境，用指令符或梯形图分别输入练习程序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~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根据程序，进行相应的连线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下载程序并运行，观察运行结果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总结报告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64268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编程控制由哪几部分组成？输入电源规格多少伏？输入电路采用什么方式？输出电路采用什么方式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26676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实验台所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编程序控制器的型号，输入为多少点？输出为多少点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26676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写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行设计的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减计数器程序梯形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3:57:49Z</dcterms:created>
  <dc:creator>zlq</dc:creator>
  <dc:description/>
  <dc:language>en-US</dc:language>
  <cp:lastModifiedBy>USER</cp:lastModifiedBy>
  <dcterms:modified xsi:type="dcterms:W3CDTF">2015-12-28T02:26:54Z</dcterms:modified>
  <cp:revision>426</cp:revision>
  <dc:subject/>
  <dc:title>第1讲    专业词汇的特点 1 本专业特有的形式 Lightning rod  Transfer switching Lighting arrester Disconnection switch Substation dielectric </dc:title>
</cp:coreProperties>
</file>