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32A-55E1-40FE-9F0C-54FE546E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0D2-5249-410C-BDDB-2EF03D7C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50B-F571-4170-B828-D5FA1FD5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9B0-7ED8-4FF6-8E2E-65E73D6F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ABEE-A93B-4734-B247-AA884385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DB95-2558-4B83-A042-4A0AA01C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25E4-D719-4154-8E79-990BEE26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4F44-FC83-4581-8EA9-CD246F26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CC10-DC9B-434C-B6C9-191A4F3A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BD40-4FCE-4DA0-98C2-2FD8209E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7FF0-901A-4934-B8CD-A8639A3D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3D2-702D-4C1E-9C07-4505AA43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FC08-7685-479B-9AD3-8578421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104E-3662-439C-9629-F1228E03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5E9C-FD70-432F-9391-6240076C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D54C-06BC-40EA-8B64-E620663E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4A36-FC3D-4248-A983-53B22AFB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7E9-D06E-4505-8AD4-7EB7835D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912-A85D-4219-A017-2BA90FED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342-7BAF-4ED7-A7C9-7CE420EB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78B-70FE-45C1-8A77-F6502748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119-7565-4940-9BCC-3DAFA9A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421-6317-4BB8-B8B2-8DA23360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320-16E7-4A1E-8F08-4E14CAEA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0175-362C-4439-B9F0-91A942CF705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0F1F-DFBD-46AE-AFD9-45EBBB88220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实验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3    P1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口输入、输出实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口做输出口，接八只发光二极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2560" y="6324480"/>
            <a:ext cx="37375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电路参考图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共阳，低电平点亮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LE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39760" y="652320"/>
            <a:ext cx="6799320" cy="555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609480" y="685800"/>
          <a:ext cx="3962520" cy="3071520"/>
        </p:xfrm>
        <a:graphic>
          <a:graphicData uri="http://schemas.openxmlformats.org/drawingml/2006/table">
            <a:tbl>
              <a:tblPr/>
              <a:tblGrid>
                <a:gridCol w="1066680"/>
                <a:gridCol w="1447920"/>
                <a:gridCol w="1447920"/>
              </a:tblGrid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元件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搜索关键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参数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51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芯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89c5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电容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CAP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电阻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RES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晶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CRYSTAL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11.0592MHz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接地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GROUND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Calibri"/>
                          <a:ea typeface="Times New Roman"/>
                        </a:rPr>
                        <a:t>电源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43560" y="5867280"/>
            <a:ext cx="37375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电路参考图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共阴，高电平点亮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LE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" y="185760"/>
            <a:ext cx="6705720" cy="53769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600200" y="5029200"/>
            <a:ext cx="2222640" cy="459720"/>
            <a:chOff x="1600200" y="5029200"/>
            <a:chExt cx="2222640" cy="459720"/>
          </a:xfrm>
        </p:grpSpPr>
        <p:sp>
          <p:nvSpPr>
            <p:cNvPr id="90" name=""/>
            <p:cNvSpPr/>
            <p:nvPr/>
          </p:nvSpPr>
          <p:spPr>
            <a:xfrm>
              <a:off x="2288880" y="5029200"/>
              <a:ext cx="15339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GROUN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00200" y="5181480"/>
              <a:ext cx="533520" cy="104760"/>
            </a:xfrm>
            <a:prstGeom prst="rightArrow">
              <a:avLst>
                <a:gd name="adj1" fmla="val 50000"/>
                <a:gd name="adj2" fmla="val 127320"/>
              </a:avLst>
            </a:prstGeom>
            <a:solidFill>
              <a:srgbClr val="ff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685800"/>
            <a:ext cx="8381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编写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5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程序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采用软件延时的方式实现发光二极管的闪烁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514600"/>
            <a:ext cx="81532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编写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5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程序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8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个发光二极管从右到左逐一点亮 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共阳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编写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C51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程序，使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个发光二极管从两边到中间顺序点亮，直至全部点亮，然后从中间到两边顺序熄灭，直至全部熄灭，如此循环下去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752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P1=0x00           ;            P1=0xff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114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P1=0xfe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0xfc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0xf8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0xf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0xe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0xc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0x8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0x00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429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P1=1111,111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111,110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。。。。。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228600"/>
            <a:ext cx="21337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延时子程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83808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void delay( 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uint i,j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for(i=0;i&lt;300;i++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for(j=0;j&lt;500;j++)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228600"/>
            <a:ext cx="8839440" cy="584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3.0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做输入口，接拨动开关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K1,P1.0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做输出口， 接发光二极管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D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编写程序读取开关状态，将此状态，在发光二极管上显示出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828800" y="2209680"/>
          <a:ext cx="5486400" cy="3618000"/>
        </p:xfrm>
        <a:graphic>
          <a:graphicData uri="http://schemas.openxmlformats.org/drawingml/2006/table">
            <a:tbl>
              <a:tblPr/>
              <a:tblGrid>
                <a:gridCol w="1528920"/>
                <a:gridCol w="2244600"/>
                <a:gridCol w="1712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元件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搜索关键字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参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芯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89c5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电容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CAP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电阻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RES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晶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CRYSTAL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1.0592MHz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接地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GROUND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电源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发光二极管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LED-yellow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按钮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BUTTON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228600"/>
            <a:ext cx="3505320" cy="584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硬件连接方法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066680"/>
            <a:ext cx="7543800" cy="584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步骤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：芯片模块接入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+5V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电压，打开电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981080"/>
            <a:ext cx="7543800" cy="107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步骤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：连接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ISP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模块和芯片模块接口，然后连接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USB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ISP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接口，最后将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USB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接口和电脑连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505320"/>
            <a:ext cx="7543800" cy="107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步骤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：双击快捷图标“风标电子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ISP”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检测到硬件之后，按擦除芯片、打开文件、写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FLASH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的顺序下载“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HEX”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文件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然后拔下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USB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410080"/>
            <a:ext cx="7543800" cy="584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步骤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：关闭电源，连接完整电路后，再打开电源，硬件执行程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8T02:01:1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