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6B36-4AA7-410A-93CF-2482C547B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CA06-F274-414C-A85E-CCFB6C90F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586B-102C-49BD-BC1C-70DD1EDBF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FB27-765A-48CA-9873-01BC3C0AA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FD2BC-142A-439F-AF9B-6FA975F64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0AC07-52E1-4877-A707-2251B6B4B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58694-AD28-421C-9FCE-6884A5286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D9C78-7109-4025-9D72-C3C0C0332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E613D-00CF-4120-9C88-0C07D8FBA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81825-55EC-44A7-A3B9-36F9A17B0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B747C-9E6A-41AA-A196-E5F121368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1655-4CB5-4BC3-891C-4F27D767D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3025A-20CE-4FD9-8B57-B403DD619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2E8A8-40CE-4D20-A9EA-A8931464E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F7D58-401A-49D5-B327-A09B2F83B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D08AC-592C-4CDE-9819-404140DC6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A9A3E-7AFB-4545-8439-E5902BED5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BC51-DEC0-45AC-A6B6-ED76CCC06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207F-F9EE-4D9B-AA84-6E0D6506D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28E2-DEB5-4FEE-99F8-066FEE557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C63E-ECEC-44C6-94FB-6BFE97B1A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52F4-9E88-462B-AF83-2BE888FF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356F-EC29-4EC6-B4EE-4FAFC1F9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E922-9BE8-40C7-8892-62FD88CAF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08EA5-A0AF-43AD-BE40-598E2D52E036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DC34F-2BA3-40D5-A11C-672760BA5568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实验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2    </a:t>
            </a: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汇编语言与</a:t>
            </a: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C51</a:t>
            </a: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编程练习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-360" y="4572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黑体"/>
                <a:ea typeface="黑体"/>
              </a:rPr>
              <a:t>（</a:t>
            </a:r>
            <a:r>
              <a:rPr b="1" lang="zh-CN" sz="2400" spc="-1" strike="noStrike">
                <a:solidFill>
                  <a:srgbClr val="007a77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7a77"/>
                </a:solidFill>
                <a:latin typeface="黑体"/>
                <a:ea typeface="黑体"/>
              </a:rPr>
              <a:t>）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绘制实验仿真原理图，编写运行程序，实现将十进制数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156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拆为三个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BCD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码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并存入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de-DE" sz="2400" spc="-1" strike="noStrike">
                <a:solidFill>
                  <a:srgbClr val="007a77"/>
                </a:solidFill>
                <a:latin typeface="Arial"/>
              </a:rPr>
              <a:t>0H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开始的三个单元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1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838080" y="1628640"/>
          <a:ext cx="2349720" cy="4543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1628640"/>
                    <a:ext cx="2349720" cy="45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3657600" y="1752480"/>
            <a:ext cx="457200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汇编程序：采用汇编指令完成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33920" y="3657600"/>
            <a:ext cx="457200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C51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程序：采用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语言完成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2666880"/>
            <a:ext cx="198108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DIV     AB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09880" y="4724280"/>
            <a:ext cx="457200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将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语言与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51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单片机结构相结合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5791320"/>
            <a:ext cx="510516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运行程序，通过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Proteus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提供的窗口来查看结果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331640" y="1600200"/>
            <a:ext cx="66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方正姚体"/>
                <a:ea typeface="方正姚体"/>
              </a:rPr>
              <a:t>1</a:t>
            </a:r>
            <a:r>
              <a:rPr b="1" lang="zh-CN" sz="2400" spc="-1" strike="noStrike">
                <a:solidFill>
                  <a:srgbClr val="ff0066"/>
                </a:solidFill>
                <a:latin typeface="方正姚体"/>
                <a:ea typeface="方正姚体"/>
              </a:rPr>
              <a:t>）</a:t>
            </a:r>
            <a:r>
              <a:rPr b="1" lang="zh-CN" sz="2400" spc="-1" strike="noStrike">
                <a:solidFill>
                  <a:srgbClr val="009900"/>
                </a:solidFill>
                <a:latin typeface="华文楷体"/>
                <a:ea typeface="华文楷体"/>
              </a:rPr>
              <a:t>使用</a:t>
            </a:r>
            <a:r>
              <a:rPr b="1" lang="zh-CN" sz="2400" spc="-1" strike="noStrike">
                <a:solidFill>
                  <a:srgbClr val="009900"/>
                </a:solidFill>
                <a:latin typeface="华文楷体"/>
                <a:ea typeface="华文楷体"/>
              </a:rPr>
              <a:t>P</a:t>
            </a:r>
            <a:r>
              <a:rPr b="1" lang="en-US" sz="2400" spc="-1" strike="noStrike">
                <a:solidFill>
                  <a:srgbClr val="009900"/>
                </a:solidFill>
                <a:latin typeface="华文楷体"/>
                <a:ea typeface="华文楷体"/>
              </a:rPr>
              <a:t>roteus</a:t>
            </a:r>
            <a:r>
              <a:rPr b="1" lang="zh-CN" sz="2400" spc="-1" strike="noStrike">
                <a:solidFill>
                  <a:srgbClr val="009900"/>
                </a:solidFill>
                <a:latin typeface="华文楷体"/>
                <a:ea typeface="华文楷体"/>
              </a:rPr>
              <a:t>自带的编译器创建</a:t>
            </a:r>
            <a:r>
              <a:rPr b="1" lang="en-US" sz="2400" spc="-1" strike="noStrike">
                <a:solidFill>
                  <a:srgbClr val="ff0066"/>
                </a:solidFill>
                <a:latin typeface="华文楷体"/>
                <a:ea typeface="华文楷体"/>
              </a:rPr>
              <a:t>hex</a:t>
            </a:r>
            <a:r>
              <a:rPr b="1" lang="zh-CN" sz="2400" spc="-1" strike="noStrike">
                <a:solidFill>
                  <a:srgbClr val="009900"/>
                </a:solidFill>
                <a:latin typeface="华文楷体"/>
                <a:ea typeface="华文楷体"/>
              </a:rPr>
              <a:t>文件（</a:t>
            </a:r>
            <a:r>
              <a:rPr b="1" i="1" lang="zh-CN" sz="2400" spc="-1" strike="noStrike">
                <a:solidFill>
                  <a:srgbClr val="009900"/>
                </a:solidFill>
                <a:latin typeface="华文楷体"/>
                <a:ea typeface="华文楷体"/>
              </a:rPr>
              <a:t>只能使用汇编语言</a:t>
            </a:r>
            <a:r>
              <a:rPr b="1" lang="zh-CN" sz="2400" spc="-1" strike="noStrike">
                <a:solidFill>
                  <a:srgbClr val="009900"/>
                </a:solidFill>
                <a:latin typeface="华文楷体"/>
                <a:ea typeface="华文楷体"/>
              </a:rPr>
              <a:t>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1360" y="3809880"/>
            <a:ext cx="311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方正姚体"/>
                <a:ea typeface="方正姚体"/>
              </a:rPr>
              <a:t>2</a:t>
            </a:r>
            <a:r>
              <a:rPr b="1" lang="zh-CN" sz="2400" spc="-1" strike="noStrike">
                <a:solidFill>
                  <a:srgbClr val="ff0066"/>
                </a:solidFill>
                <a:latin typeface="方正姚体"/>
                <a:ea typeface="方正姚体"/>
              </a:rPr>
              <a:t>）</a:t>
            </a:r>
            <a:r>
              <a:rPr b="1" lang="zh-CN" sz="2400" spc="-1" strike="noStrike">
                <a:solidFill>
                  <a:srgbClr val="009900"/>
                </a:solidFill>
                <a:latin typeface="华文楷体"/>
                <a:ea typeface="华文楷体"/>
              </a:rPr>
              <a:t>使用</a:t>
            </a:r>
            <a:r>
              <a:rPr b="1" lang="en-US" sz="2400" spc="-1" strike="noStrike">
                <a:solidFill>
                  <a:srgbClr val="009900"/>
                </a:solidFill>
                <a:latin typeface="华文楷体"/>
                <a:ea typeface="华文楷体"/>
              </a:rPr>
              <a:t>keil</a:t>
            </a:r>
            <a:r>
              <a:rPr b="1" lang="zh-CN" sz="2400" spc="-1" strike="noStrike">
                <a:solidFill>
                  <a:srgbClr val="009900"/>
                </a:solidFill>
                <a:latin typeface="华文楷体"/>
                <a:ea typeface="华文楷体"/>
              </a:rPr>
              <a:t>生成</a:t>
            </a:r>
            <a:r>
              <a:rPr b="1" lang="en-US" sz="2400" spc="-1" strike="noStrike">
                <a:solidFill>
                  <a:srgbClr val="ff0066"/>
                </a:solidFill>
                <a:latin typeface="华文楷体"/>
                <a:ea typeface="华文楷体"/>
              </a:rPr>
              <a:t>hex</a:t>
            </a:r>
            <a:r>
              <a:rPr b="1" lang="zh-CN" sz="2400" spc="-1" strike="noStrike">
                <a:solidFill>
                  <a:srgbClr val="009900"/>
                </a:solidFill>
                <a:latin typeface="华文楷体"/>
                <a:ea typeface="华文楷体"/>
              </a:rPr>
              <a:t>文件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373392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23840" y="3276720"/>
            <a:ext cx="267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9900"/>
                </a:solidFill>
                <a:latin typeface="华文楷体"/>
                <a:ea typeface="华文楷体"/>
              </a:rPr>
              <a:t>使用汇编语言生成</a:t>
            </a:r>
            <a:r>
              <a:rPr b="1" i="1" lang="en-US" sz="2400" spc="-1" strike="noStrike">
                <a:solidFill>
                  <a:srgbClr val="ff0066"/>
                </a:solidFill>
                <a:latin typeface="华文楷体"/>
                <a:ea typeface="华文楷体"/>
              </a:rPr>
              <a:t>hex</a:t>
            </a:r>
            <a:r>
              <a:rPr b="1" i="1" lang="zh-CN" sz="2400" spc="-1" strike="noStrike">
                <a:solidFill>
                  <a:srgbClr val="009900"/>
                </a:solidFill>
                <a:latin typeface="华文楷体"/>
                <a:ea typeface="华文楷体"/>
              </a:rPr>
              <a:t>文件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412160" y="4495680"/>
            <a:ext cx="263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9900"/>
                </a:solidFill>
                <a:latin typeface="华文楷体"/>
                <a:ea typeface="华文楷体"/>
              </a:rPr>
              <a:t>使用</a:t>
            </a:r>
            <a:r>
              <a:rPr b="1" i="1" lang="en-US" sz="2400" spc="-1" strike="noStrike">
                <a:solidFill>
                  <a:srgbClr val="009900"/>
                </a:solidFill>
                <a:latin typeface="华文楷体"/>
                <a:ea typeface="华文楷体"/>
              </a:rPr>
              <a:t>C</a:t>
            </a:r>
            <a:r>
              <a:rPr b="1" i="1" lang="zh-CN" sz="2400" spc="-1" strike="noStrike">
                <a:solidFill>
                  <a:srgbClr val="009900"/>
                </a:solidFill>
                <a:latin typeface="华文楷体"/>
                <a:ea typeface="华文楷体"/>
              </a:rPr>
              <a:t>语言生成</a:t>
            </a:r>
            <a:r>
              <a:rPr b="1" i="1" lang="en-US" sz="2400" spc="-1" strike="noStrike">
                <a:solidFill>
                  <a:srgbClr val="009900"/>
                </a:solidFill>
                <a:latin typeface="华文楷体"/>
                <a:ea typeface="华文楷体"/>
              </a:rPr>
              <a:t>hex</a:t>
            </a:r>
            <a:r>
              <a:rPr b="1" i="1" lang="zh-CN" sz="2400" spc="-1" strike="noStrike">
                <a:solidFill>
                  <a:srgbClr val="009900"/>
                </a:solidFill>
                <a:latin typeface="华文楷体"/>
                <a:ea typeface="华文楷体"/>
              </a:rPr>
              <a:t>文件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75280" y="654120"/>
            <a:ext cx="1920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67080" y="3200400"/>
            <a:ext cx="344484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不采用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99080" y="457200"/>
            <a:ext cx="190872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C51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程序的结构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48960" y="1276200"/>
            <a:ext cx="72936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头文件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1295280"/>
            <a:ext cx="30276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#include  &lt;reg51.h&gt;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636520" y="1295280"/>
            <a:ext cx="31478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#include  &lt;intrins.h&gt;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48960" y="2133720"/>
            <a:ext cx="72936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宏定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83120" y="2133720"/>
            <a:ext cx="48412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#define   uchar    unsigned  char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010880" y="2895480"/>
            <a:ext cx="91224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变量声明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62120" y="3753000"/>
            <a:ext cx="2438280" cy="1557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Main(   )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51280" y="3705120"/>
            <a:ext cx="48355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C51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程序中，大小写需要区分，一般采用小写，但是寄存器采用大写的形式（与头文件一致），每条指令结尾必须加分号“；”，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14600" y="2895480"/>
            <a:ext cx="2232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sbit   L1=P1^1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4920" y="685800"/>
            <a:ext cx="8534160" cy="520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(2)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编写运行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C51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程序，完成对片内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RAM50H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开始的连续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16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个字节赋值操作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47920" y="38862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循环语句的使用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25146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绝对地址的访问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52280" y="689040"/>
            <a:ext cx="8839440" cy="584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（</a:t>
            </a:r>
            <a:r>
              <a:rPr b="0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）绘制实验仿真原理图，</a:t>
            </a:r>
            <a:r>
              <a:rPr b="0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P1</a:t>
            </a:r>
            <a:r>
              <a:rPr b="0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口接</a:t>
            </a:r>
            <a:r>
              <a:rPr b="0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8</a:t>
            </a:r>
            <a:r>
              <a:rPr b="0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个发光二极管。编写运行</a:t>
            </a:r>
            <a:r>
              <a:rPr b="0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C51</a:t>
            </a:r>
            <a:r>
              <a:rPr b="0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程序，程序功能为将</a:t>
            </a:r>
            <a:r>
              <a:rPr b="0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P3</a:t>
            </a:r>
            <a:r>
              <a:rPr b="0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口的任意状态值由二极管的状态显示输出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04920" y="2362320"/>
            <a:ext cx="4876560" cy="39114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6132600" y="3578400"/>
            <a:ext cx="1826640" cy="825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电路参考图：共阴，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高电平点亮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LED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11-28T02:02:55Z</dcterms:modified>
  <cp:revision>5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