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3D5-49AF-4F59-AB2B-D3A91800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DDE-A0DC-4388-B04A-0404609E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3CB-D28A-4F8A-AC28-05371674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1BA-A24D-4FCF-9161-BBA74133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F7C6-A705-40FE-94A9-785E1203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9C73-576C-455A-8462-0BEFE63F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2673-3AC5-4013-8AD5-D3A9DEDB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3AAF-4BC3-4781-B400-067B1C3D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02DA-34F4-44D5-BAF3-911D7FCE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29CA-3A6F-403B-99DA-9C6ADB7E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9B11-3891-4DDB-9997-0030F2A8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049-74DC-438B-9CFE-DEB14FBF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3349-0233-4837-9D65-25F96061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7538-23FA-421B-B1BF-F2F2804D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1746-7716-4116-BB78-CED4CE69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81C2-457B-4C66-8879-AE155598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BD01-89F8-43D1-8D98-5978D32B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880-6F84-41E1-BC9B-06E8B3B4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C86-D4CB-414D-894E-B0EEC8DC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C64-04CE-4356-82BC-DAE8A257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67A-5F1A-438D-8F33-7EF1F952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EB1-BEA7-45F6-9D90-5ACD006E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0EB-E5F9-494F-99F5-AF53600C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7E7-FDC0-4CC7-8A30-27E8AA2D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6CD4-5B58-4EDC-A33F-98A736DDDF0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A547-8606-45A6-AB28-EC1AC41F180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实验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6  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双机通信实验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80880"/>
            <a:ext cx="838224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设计仿真甲、乙两台单片机，甲机工作是检查接在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P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口的拨码开关的状态，当检测到开关的状态有变化时，就将变化后的状态读入，通过串行口将这个开关状态传给乙机。当乙机接收到这个字节后就将它输出到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P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口上通过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LED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显示，试自行设计仿真电路图，连接硬件电路，并调试运行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（设</a:t>
            </a:r>
            <a:r>
              <a:rPr b="1" i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f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osc=12MHZ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BRD=9600b/s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666880" y="3733920"/>
            <a:ext cx="327672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228600"/>
            <a:ext cx="21337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延时子程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83808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void delay( 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uint i,j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for(i=0;i&lt;300;i++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for(j=0;j&lt;500;j++)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8077320" cy="107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设计仿真甲、乙两个单片机进行方串行口通信。甲机工作是将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个流水灯控制数据发送给乙机，乙机再利用该数据点亮其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P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口的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个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LED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可以采用串行口方式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进行通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9T00:37:23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