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790-9ABB-4E72-9342-AF136C68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7B2-7622-4760-ACC0-E386D46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56B-75F7-4EF6-AA60-996637E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D66-F0F7-47B1-87A0-1264D521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D0D4-37D6-4B4B-B28C-B4C5C4BB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5DF7-6284-4E06-8642-FBD0C6C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CA3B-6B57-4984-AE5E-97C4631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2A0-3324-48A3-AD9A-DA1B0670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2E9-DB7E-45E9-B71E-32348F1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09A-64C0-4CBC-8B60-4E698B9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691-2C5E-449A-BDC6-D5CFC78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B0A-91C1-4390-98B7-24B44875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8B3-5EBB-461C-B958-1394270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A465-1726-4DB7-B5B8-8CE2752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173-216E-4BFB-B7DF-627C3746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483-B581-4685-BA60-98D65E9E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2FC-C889-440D-8C9C-345B34F0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6C6-2921-41F8-8A76-2E32A328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514-4C3C-4A7F-A26B-6766702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B29-A922-42FF-A2FF-25253FC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324-C28E-42EF-A51F-F42ECF7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127-A721-4811-A280-7DF75F3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C8F-7568-49CC-8B52-5A2EDD3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E3C-FF3F-4E0C-8877-A6A3222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52DB-3130-4F07-BE4E-3F733E29D45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5AC-1FA9-43E4-AD76-A6C3E50FE57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实验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外部中断实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编写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用按键模拟单片机外部中断输入源，当按键按下时产生中断。外部中断未发生时，系统通过定时器完成定时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0.5s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的延时，使发光二极管呈从左到右的顺序依次被点亮，当有中断产生时，发光二极管则闪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22040" y="27424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硬件连接表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666880" y="3276720"/>
          <a:ext cx="3353040" cy="14605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MCU</a:t>
                      </a: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模块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PB-EDU-01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P10~P17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D1~D8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P32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+5V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+5V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228600"/>
            <a:ext cx="8839440" cy="107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绘制实验电路图，编写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用按键模拟单片机外部中断输入源，当按键按下时产生中断。要求采用外部中断信号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INT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每中断一次，从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.4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.7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读入外部开关状态，然后从接有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发光二极管的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.0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.3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输出开关状态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0400" y="6248520"/>
            <a:ext cx="2133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原件列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228600"/>
            <a:ext cx="8839440" cy="107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）绘制实验电路图，编写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程序，用按键模拟单片机外部中断输入源，当按键按下时产生中断。选取按钮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S0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S1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接至单片机引脚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INT0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INT1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只发光二极管接至单片机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口。编写程序控制发光二极管状态，无中断时，发光二极管为从两边到中间顺序点亮状态，若按下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S0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，则从左到右顺序点亮发光二极管；若按下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S1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后，则从右到左顺序点亮发光二极管。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0" y="3124080"/>
            <a:ext cx="4267080" cy="3048120"/>
            <a:chOff x="2286000" y="3124080"/>
            <a:chExt cx="4267080" cy="30481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286000" y="3124080"/>
              <a:ext cx="4267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76720" y="5486400"/>
              <a:ext cx="21333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原件列表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9T01:55:4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