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483-C250-471E-8897-17C6495E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DBC-4103-4A48-95D2-98EFEB5E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583F7-1BBE-4A55-AB3B-66C3A3C9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42598-59CF-428A-8E54-CE90FB19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2499C-A5B9-480E-B2A4-AA52B2F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309DB-C7F1-48B0-92DF-71B04AB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93704-74E9-43DA-ACEC-45CAF63E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6926C-3F50-408D-952B-41875BB0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AAC82-661B-498E-81ED-3887A461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0ED3A-1CA5-4A8E-8519-6BDD81F1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2E0AD-D467-49FD-8A52-5AAF7419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0A654-E2C8-47CC-B015-DA5A41DD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D16-0EDA-4333-B5DD-A2E228C8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9FD00-F5AC-4864-A460-6016D1D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2429B-AAE3-4FD1-8D8A-3ED53F3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29B04-9986-4B41-A44E-CBE92318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E82B-B3FA-48C8-9C7D-FB4B3FC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B9DB9-0D39-42B1-A32A-452DAC7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087E2-D5B9-4B5D-B8BB-2837E4D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419B-2CE0-4F54-9EA0-6CE4C9C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06EDD-2E6F-4EB2-A7BB-92C5CA89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50426-327C-4EEA-BF19-859E1DE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0BA8E-2011-469A-9828-A9652844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660-4F1E-4F32-95FF-CF56D2C7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55793-C9E8-4313-B994-5700B937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D0139-68C6-43D6-924A-C762D208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8ACB7-2537-4E2C-AD11-3DBE6D53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11E11-582F-41F8-A304-C20C53F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661C2-3617-4250-9DC1-675C4261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8779F-74C6-4787-9E60-420C80E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FDB73-5EF6-4C09-A0CB-B02C45EA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33687-C6F2-4CE8-9D2E-E8E53B2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B8C89-1872-4CFF-90A7-7AA347E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8C0C8-8AE9-43F8-84A5-6A74B3F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049E-A1DD-42A6-B29E-3805F893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E387E-FC83-4AEF-85E2-841618A9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5A069-E6CC-44D4-96F2-955AC0CF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D7FC-9DE4-4D49-942B-6167C6FF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92EF3-B971-4057-8528-7BC54530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761C6-9A5D-4B1D-B02C-3D387B9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496F0-6257-41B0-A8C5-E407076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ABEC8-D20C-488F-BFFB-EA778C29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166D3-E3B3-4619-B870-836AB5E5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1436F-038D-4BB3-9101-55ECAA14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D677-E69E-49EC-8042-737D5148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DBBF-37DF-4A6C-99FF-0DF53569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48E6E-6295-494E-BB55-15D49CF3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B3A8A-5EF7-4FB0-857E-054CB787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96CE2-682C-4ACD-AF27-52DEB85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EE535-7C96-48C4-8CB0-4C8A3BBE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65AB7-6E9C-4D0F-8467-6C2B5A39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796C2-8005-4CC0-95B6-61958EBD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874B1-9895-4C9B-9A7D-08D99D1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B8F63-0A9D-4832-A18C-82B649D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3DF4A-9764-4F58-8346-0C5D99A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E922B-93B3-4D3D-B3E4-47F93E4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32E5-DF61-47FC-809A-C4D81C9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83461-0CE6-41DC-AB8C-C1F50BDD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2D68C-3F44-4B1C-8B68-AFB84F0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EA589-79BC-443F-B633-02FDDB4D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559CE-E79B-4D57-A04F-D789358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FB281-49FB-49DD-A2A8-8C00F2D9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30DD3-4C2B-44CE-BB39-CAAD1DCE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83C87-5278-4E14-BB35-3DB44EEA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50BFC-24E1-43E3-9736-9A5FF553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41238-1EA1-4FB7-9991-DD2C681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40EE5-BD02-4EF2-AF80-910F612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C7C9-BF4F-4905-A484-5195285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6EB3F-0930-4D7C-82D0-665FF02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010DC-584A-46CB-B860-86A8908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06B2C-9700-4727-997C-6CC7530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7E99E-E5AC-438E-A2FE-5E4D660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6407A-F0D6-4F94-9235-3BC9D8A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E28E8-0C3D-4042-9F27-BDA6665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71D55-0734-42C9-A25B-575E5905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57C64-1F1B-4902-8E86-D7F39B7B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BEBA0-2FA3-4EE3-B0A1-396B9CA9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F8BF-F791-49E2-B908-2FDB587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7DB-5A67-491E-940E-04AF570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12D0-164B-432B-B4D9-2364F3EE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4EA-1D64-46D6-993C-D2CEEAC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6AFA-0688-473E-936B-FC5AEDD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D8A5-0CBD-43AA-ABCB-DEF3931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CFA2-CD5E-4F15-8D29-E8F720A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BC6-C131-4791-AF86-5C3A9C82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209-3CB7-466C-A43C-E4DEF4CF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B02D-F72E-4507-9B3E-DDFF1E93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6DC8-833D-44F1-A494-D929608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F93D-FBE6-43B0-8227-C9C46B70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D386-83D8-41CC-A4A5-3D87C928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8A18-EE72-4A30-BBE2-3541E10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1B4-80D4-4571-9795-5FFB398D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FC84-BBDD-4038-BC70-DED614A7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A33A-DE22-49BB-BECD-1B4DB3D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97CD-9968-4351-BEC3-7A4A6CB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40E8-1F4E-40F3-9E90-AD325A8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B9E9-8405-4CB3-908F-6BDB6E3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E240-C863-47D9-8705-42CE89F1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85E4-3433-4D51-BD1B-BBCCDD23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826F-FA84-4786-B15A-157B27F1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4CC1-4043-497F-8A00-33D41266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0A69-0F51-4A8D-95E1-4F92FE3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0F2-427B-4DF6-AD8C-9DD401E9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060E-D07C-4467-8D03-C0EAD06C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4200-4607-4339-9913-D90BAB77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7083-084D-4EE7-B05A-23132953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B3AF-C225-4D57-9A36-CB429C8B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FC24-D760-4F6B-A102-B8142CB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08B2-8589-4493-BCCE-B3DCB932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0F15-1978-49C1-A55A-98725FE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3C60-BA0A-4DB6-BB3C-AE8C7612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9455-AA06-4E36-A5DA-FD53F492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64D7-FE5D-47B8-9F0C-B820CC3C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AB2-9A86-4FCA-A228-EF51E19E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0FEED-A855-4665-98B1-E1B2D7CE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4F3A-D897-472C-AB63-AB0C7A4D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C1DCA-477F-4656-AA24-9965853D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2158-284B-464E-96FA-19692315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B5DD-63D9-440D-83A4-8C5B7295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D93A-7AEB-4BA2-AB29-578A1D0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DC2D-CC79-48C7-9CE5-CD7FFD59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AD7F-153B-4554-8463-601A6B7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C6EE-7257-45E9-A769-C74CE6F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146A-9AFF-42B1-AC39-57E4A8F1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A82-7133-4172-9FCE-52B2FA7A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2D55-FB68-4AE8-83EB-15A6FC2A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F836-AE6E-4955-9548-744E8324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5DB6-781F-476A-BF0C-32EBB629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2956-9D6D-406D-8E32-213F84DB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8B52-64AF-4016-B0EF-F40C922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117DC-B25B-4A24-BD7D-A0322DB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BA76-BF81-4B4B-8351-363CB29B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EBC6-B7AC-4296-9439-2F9D89A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B1AA5-7218-4371-8A38-09CD2C1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CE1BF-759B-45AE-A304-EDDEFA7E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C0E-D8EE-47EC-BA47-2DDE596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74D01-1BBE-435D-A76F-89987319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734F-7BA8-47C2-ACDA-8A1C528C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D9E2-2EF0-420A-99BB-C0C39E53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C5574-B741-41B9-9277-391EA512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35DF-0F4E-4DDD-B4FC-6568E25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FC53-80ED-49AA-A795-0DF8552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3F48-01A3-4983-9C3B-068007F3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A7618-F987-498D-89A8-4B3CEF84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57C8-6DE8-46E5-8B03-1D39E62C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4338-92AD-4294-80F7-79D5DD1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00E-55DF-40AE-A108-A221A8A8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0A616-3910-49CE-9668-AB144F7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6671-3FE9-481B-9A77-87F0711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739C5-7FF0-49EC-A377-D4B2D10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EE521-4786-4F69-9201-B62BB269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63E96-4C72-42C6-901F-61205573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F55FD-1FAD-4673-BEA5-F3D52075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4E166-0FA7-409E-BE85-B539D881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0D00-0F74-4F3F-8413-FFC231FD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8297-B254-43AB-9291-67B9E9F0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AE905-D20F-4613-91B6-CC519EFA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808-12BE-4C88-842E-3A7C487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B1935-B17C-4AC3-85DF-ECCB0B96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4E5F6-775B-47C5-A4E4-7C616B3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8AA64-B490-485A-A0C5-EFA27F4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7EA8E-823F-4DFC-8629-7C74F4F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29EA4-A5ED-4EE3-8283-47BCB120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1974-7E57-4EB9-A1CA-09C0CD5D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9998A-C99B-4086-A179-E68BE706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CBA99-8FCA-4E10-ABDB-2CC75D7C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EE526-CE9D-4422-A68C-18C11EB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9C4B2-886D-43AD-8F76-C10F37A4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2B3-6871-43E7-8A47-690F81C99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525-632D-4D86-8D4F-C7B191085413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8BE-C6E6-4FD4-B093-5BC70D6057B5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9B6C-BF1F-4B81-8DAC-0503A8BCCF7E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6A6-C669-4AD9-AEFF-92865E195A5D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233C-B16C-4FD0-A552-EEBBBD5B2B51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9AD1-CEEB-4E5A-9320-B6B8D264A84F}" type="slidenum"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1EC-ADF5-403C-BD9E-A30A4804F5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CBC-DFE5-4777-93B5-CB9C73A0EB5C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8C4-13CB-4A9E-B533-E2C65A11ACFD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9D78-2E44-4A63-9502-98B233A5D21A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CD29-59BF-4D40-BA38-293BDA188629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914A-257C-48D3-BFC1-3D55FB18A091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黑体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90D-39AB-4C48-B8FC-909145DB5723}" type="slidenum">
              <a:rPr b="0" lang="en-US" sz="14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实验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定时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计数器实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611280" y="414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定时器／计数器的特殊功能寄存器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836640" y="1089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与定时器／计数器有关的特殊功能寄存器有：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971640" y="1673280"/>
            <a:ext cx="51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．工作方式控制寄存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MOD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2194560" y="414972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T1</a:t>
            </a: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5861880" y="414972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T0</a:t>
            </a: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617" name="Group 7"/>
          <p:cNvGrpSpPr/>
          <p:nvPr/>
        </p:nvGrpSpPr>
        <p:grpSpPr>
          <a:xfrm>
            <a:off x="976320" y="2554200"/>
            <a:ext cx="7380360" cy="1035000"/>
            <a:chOff x="976320" y="2554200"/>
            <a:chExt cx="7380360" cy="1035000"/>
          </a:xfrm>
        </p:grpSpPr>
        <p:sp>
          <p:nvSpPr>
            <p:cNvPr id="618" name="Rectangle 8"/>
            <p:cNvSpPr/>
            <p:nvPr/>
          </p:nvSpPr>
          <p:spPr>
            <a:xfrm>
              <a:off x="7434360" y="3071520"/>
              <a:ext cx="922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M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11680" y="3071520"/>
              <a:ext cx="922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M1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5589360" y="3071520"/>
              <a:ext cx="922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4667040" y="3071520"/>
              <a:ext cx="922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GATE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3743280" y="3071520"/>
              <a:ext cx="923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M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2820960" y="3071520"/>
              <a:ext cx="922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M1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1898640" y="3071520"/>
              <a:ext cx="922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5" name="Rectangle 15"/>
            <p:cNvSpPr/>
            <p:nvPr/>
          </p:nvSpPr>
          <p:spPr>
            <a:xfrm>
              <a:off x="976320" y="3071520"/>
              <a:ext cx="922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GATE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6" name="Rectangle 16"/>
            <p:cNvSpPr/>
            <p:nvPr/>
          </p:nvSpPr>
          <p:spPr>
            <a:xfrm>
              <a:off x="7434360" y="2554200"/>
              <a:ext cx="922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6511680" y="2554200"/>
              <a:ext cx="922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1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5589360" y="2554200"/>
              <a:ext cx="922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2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29" name="Rectangle 19"/>
            <p:cNvSpPr/>
            <p:nvPr/>
          </p:nvSpPr>
          <p:spPr>
            <a:xfrm>
              <a:off x="4667040" y="2554200"/>
              <a:ext cx="922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3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0" name="Rectangle 20"/>
            <p:cNvSpPr/>
            <p:nvPr/>
          </p:nvSpPr>
          <p:spPr>
            <a:xfrm>
              <a:off x="3743280" y="2554200"/>
              <a:ext cx="923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4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1" name="Rectangle 21"/>
            <p:cNvSpPr/>
            <p:nvPr/>
          </p:nvSpPr>
          <p:spPr>
            <a:xfrm>
              <a:off x="2820960" y="2554200"/>
              <a:ext cx="922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5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2" name="Rectangle 22"/>
            <p:cNvSpPr/>
            <p:nvPr/>
          </p:nvSpPr>
          <p:spPr>
            <a:xfrm>
              <a:off x="1898640" y="2554200"/>
              <a:ext cx="922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6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3" name="Rectangle 23"/>
            <p:cNvSpPr/>
            <p:nvPr/>
          </p:nvSpPr>
          <p:spPr>
            <a:xfrm>
              <a:off x="976320" y="2554200"/>
              <a:ext cx="922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D7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>
              <a:off x="976320" y="2554200"/>
              <a:ext cx="738036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5" name="Line 25"/>
            <p:cNvSpPr/>
            <p:nvPr/>
          </p:nvSpPr>
          <p:spPr>
            <a:xfrm>
              <a:off x="976320" y="3071520"/>
              <a:ext cx="7380360" cy="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>
              <a:off x="976320" y="3589200"/>
              <a:ext cx="738036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7" name="Line 27"/>
            <p:cNvSpPr/>
            <p:nvPr/>
          </p:nvSpPr>
          <p:spPr>
            <a:xfrm>
              <a:off x="976320" y="2554200"/>
              <a:ext cx="0" cy="10350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8" name="Line 28"/>
            <p:cNvSpPr/>
            <p:nvPr/>
          </p:nvSpPr>
          <p:spPr>
            <a:xfrm>
              <a:off x="189864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39" name="Line 29"/>
            <p:cNvSpPr/>
            <p:nvPr/>
          </p:nvSpPr>
          <p:spPr>
            <a:xfrm>
              <a:off x="282096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0" name="Line 30"/>
            <p:cNvSpPr/>
            <p:nvPr/>
          </p:nvSpPr>
          <p:spPr>
            <a:xfrm>
              <a:off x="374328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1" name="Line 31"/>
            <p:cNvSpPr/>
            <p:nvPr/>
          </p:nvSpPr>
          <p:spPr>
            <a:xfrm>
              <a:off x="466704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2" name="Line 32"/>
            <p:cNvSpPr/>
            <p:nvPr/>
          </p:nvSpPr>
          <p:spPr>
            <a:xfrm>
              <a:off x="558936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3" name="Line 33"/>
            <p:cNvSpPr/>
            <p:nvPr/>
          </p:nvSpPr>
          <p:spPr>
            <a:xfrm>
              <a:off x="651168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4" name="Line 34"/>
            <p:cNvSpPr/>
            <p:nvPr/>
          </p:nvSpPr>
          <p:spPr>
            <a:xfrm>
              <a:off x="7434360" y="2554200"/>
              <a:ext cx="0" cy="10350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5" name="Line 35"/>
            <p:cNvSpPr/>
            <p:nvPr/>
          </p:nvSpPr>
          <p:spPr>
            <a:xfrm>
              <a:off x="8356680" y="2554200"/>
              <a:ext cx="0" cy="10350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6" name="Line 36"/>
            <p:cNvSpPr/>
            <p:nvPr/>
          </p:nvSpPr>
          <p:spPr>
            <a:xfrm>
              <a:off x="2444760" y="3178080"/>
              <a:ext cx="15228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47" name="Line 37"/>
            <p:cNvSpPr/>
            <p:nvPr/>
          </p:nvSpPr>
          <p:spPr>
            <a:xfrm>
              <a:off x="6151320" y="3178080"/>
              <a:ext cx="15264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648" name="Rectangle 38"/>
          <p:cNvSpPr/>
          <p:nvPr/>
        </p:nvSpPr>
        <p:spPr>
          <a:xfrm>
            <a:off x="1376280" y="4941720"/>
            <a:ext cx="31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GATE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门控位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649" name="Group 39"/>
          <p:cNvGrpSpPr/>
          <p:nvPr/>
        </p:nvGrpSpPr>
        <p:grpSpPr>
          <a:xfrm>
            <a:off x="1605960" y="5464080"/>
            <a:ext cx="2925360" cy="520560"/>
            <a:chOff x="1605960" y="5464080"/>
            <a:chExt cx="2925360" cy="520560"/>
          </a:xfrm>
        </p:grpSpPr>
        <p:sp>
          <p:nvSpPr>
            <p:cNvPr id="650" name="Rectangle 40"/>
            <p:cNvSpPr/>
            <p:nvPr/>
          </p:nvSpPr>
          <p:spPr>
            <a:xfrm>
              <a:off x="1605960" y="5464080"/>
              <a:ext cx="292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</a:t>
              </a: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—</a:t>
              </a:r>
              <a:r>
                <a:rPr b="0" lang="zh-CN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计数</a:t>
              </a: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定时选择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51" name="Line 41"/>
            <p:cNvSpPr/>
            <p:nvPr/>
          </p:nvSpPr>
          <p:spPr>
            <a:xfrm>
              <a:off x="1832040" y="5551200"/>
              <a:ext cx="152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652" name="Rectangle 42"/>
          <p:cNvSpPr/>
          <p:nvPr/>
        </p:nvSpPr>
        <p:spPr>
          <a:xfrm>
            <a:off x="1376280" y="6084720"/>
            <a:ext cx="49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M1 M0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工作方式选择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53" name="AutoShape 43"/>
          <p:cNvSpPr/>
          <p:nvPr/>
        </p:nvSpPr>
        <p:spPr>
          <a:xfrm rot="16200000">
            <a:off x="2489040" y="2349000"/>
            <a:ext cx="360360" cy="3097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440"/>
              <a:gd name="textAreaBottom" fmla="*/ 3016800 h 30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54" name="AutoShape 44"/>
          <p:cNvSpPr/>
          <p:nvPr/>
        </p:nvSpPr>
        <p:spPr>
          <a:xfrm rot="16200000">
            <a:off x="6305400" y="2349000"/>
            <a:ext cx="360360" cy="3097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440"/>
              <a:gd name="textAreaBottom" fmla="*/ 3016800 h 30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206720" y="91764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．定时器控制寄存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CON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422360" y="1989000"/>
          <a:ext cx="6095880" cy="7621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7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6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5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4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3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2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D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黑体"/>
                        </a:rPr>
                        <a:t>TF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TR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黑体"/>
                        </a:rPr>
                        <a:t>TF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黑体"/>
                        </a:rPr>
                        <a:t>TR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黑体"/>
                        </a:rPr>
                        <a:t>IE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黑体"/>
                        </a:rPr>
                        <a:t>IT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黑体"/>
                        </a:rPr>
                        <a:t>IE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黑体"/>
                        </a:rPr>
                        <a:t>IT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57" name="Group 32"/>
          <p:cNvGrpSpPr/>
          <p:nvPr/>
        </p:nvGrpSpPr>
        <p:grpSpPr>
          <a:xfrm>
            <a:off x="1422000" y="2903400"/>
            <a:ext cx="4952880" cy="762120"/>
            <a:chOff x="1422000" y="2903400"/>
            <a:chExt cx="4952880" cy="762120"/>
          </a:xfrm>
        </p:grpSpPr>
        <p:sp>
          <p:nvSpPr>
            <p:cNvPr id="658" name="Line 33"/>
            <p:cNvSpPr/>
            <p:nvPr/>
          </p:nvSpPr>
          <p:spPr>
            <a:xfrm flipH="1">
              <a:off x="1422000" y="2903400"/>
              <a:ext cx="456840" cy="7621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59" name="Line 34"/>
            <p:cNvSpPr/>
            <p:nvPr/>
          </p:nvSpPr>
          <p:spPr>
            <a:xfrm flipH="1">
              <a:off x="1422000" y="2903400"/>
              <a:ext cx="1828440" cy="7621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60" name="Line 35"/>
            <p:cNvSpPr/>
            <p:nvPr/>
          </p:nvSpPr>
          <p:spPr>
            <a:xfrm flipH="1">
              <a:off x="1498320" y="2903400"/>
              <a:ext cx="3428640" cy="7621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61" name="Line 36"/>
            <p:cNvSpPr/>
            <p:nvPr/>
          </p:nvSpPr>
          <p:spPr>
            <a:xfrm flipH="1">
              <a:off x="1498320" y="2903400"/>
              <a:ext cx="4876560" cy="7621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662" name="Text Box 37"/>
          <p:cNvSpPr/>
          <p:nvPr/>
        </p:nvSpPr>
        <p:spPr>
          <a:xfrm>
            <a:off x="936360" y="3527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中断请求标志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663" name="Group 38"/>
          <p:cNvGrpSpPr/>
          <p:nvPr/>
        </p:nvGrpSpPr>
        <p:grpSpPr>
          <a:xfrm>
            <a:off x="5537160" y="2903400"/>
            <a:ext cx="1523160" cy="457200"/>
            <a:chOff x="5537160" y="2903400"/>
            <a:chExt cx="1523160" cy="457200"/>
          </a:xfrm>
        </p:grpSpPr>
        <p:sp>
          <p:nvSpPr>
            <p:cNvPr id="664" name="Line 39"/>
            <p:cNvSpPr/>
            <p:nvPr/>
          </p:nvSpPr>
          <p:spPr>
            <a:xfrm>
              <a:off x="5537160" y="2903400"/>
              <a:ext cx="1295280" cy="4572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65" name="Line 40"/>
            <p:cNvSpPr/>
            <p:nvPr/>
          </p:nvSpPr>
          <p:spPr>
            <a:xfrm flipH="1">
              <a:off x="6908040" y="2903400"/>
              <a:ext cx="152280" cy="4572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666" name="Text Box 41"/>
          <p:cNvSpPr/>
          <p:nvPr/>
        </p:nvSpPr>
        <p:spPr>
          <a:xfrm>
            <a:off x="6422760" y="3513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触发方式选择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667" name="Group 42"/>
          <p:cNvGrpSpPr/>
          <p:nvPr/>
        </p:nvGrpSpPr>
        <p:grpSpPr>
          <a:xfrm>
            <a:off x="2565360" y="2903400"/>
            <a:ext cx="1600200" cy="762120"/>
            <a:chOff x="2565360" y="2903400"/>
            <a:chExt cx="1600200" cy="762120"/>
          </a:xfrm>
        </p:grpSpPr>
        <p:sp>
          <p:nvSpPr>
            <p:cNvPr id="668" name="Line 43"/>
            <p:cNvSpPr/>
            <p:nvPr/>
          </p:nvSpPr>
          <p:spPr>
            <a:xfrm>
              <a:off x="2565360" y="2903400"/>
              <a:ext cx="1219320" cy="7621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69" name="Line 44"/>
            <p:cNvSpPr/>
            <p:nvPr/>
          </p:nvSpPr>
          <p:spPr>
            <a:xfrm flipH="1">
              <a:off x="3861000" y="2903400"/>
              <a:ext cx="304560" cy="7621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670" name="Text Box 45"/>
          <p:cNvSpPr/>
          <p:nvPr/>
        </p:nvSpPr>
        <p:spPr>
          <a:xfrm>
            <a:off x="3418920" y="351324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启动定时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计数器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6527880" y="402264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0  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低电平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1  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下降沿</a:t>
            </a:r>
            <a:endParaRPr b="0" lang="en-US" sz="24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3724200" y="4002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停止</a:t>
            </a:r>
            <a:endParaRPr b="0" lang="en-US" sz="2400" spc="-1" strike="noStrike">
              <a:solidFill>
                <a:srgbClr val="007a77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启动</a:t>
            </a:r>
            <a:endParaRPr b="0" lang="en-US" sz="24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utoShape 2"/>
          <p:cNvSpPr/>
          <p:nvPr/>
        </p:nvSpPr>
        <p:spPr>
          <a:xfrm>
            <a:off x="1511280" y="6129360"/>
            <a:ext cx="2430360" cy="539640"/>
          </a:xfrm>
          <a:prstGeom prst="wedgeEllipseCallout">
            <a:avLst>
              <a:gd name="adj1" fmla="val -69462"/>
              <a:gd name="adj2" fmla="val -367648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ahoma"/>
                <a:ea typeface="黑体"/>
              </a:rPr>
              <a:t>计数脉冲输入</a:t>
            </a:r>
            <a:endParaRPr b="0" lang="en-US" sz="20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960720" y="533520"/>
            <a:ext cx="60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、定时器／计数器的工作方式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2066400" y="1314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定时器／计数器共有四种工作方式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815760" y="2124000"/>
            <a:ext cx="37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1).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方式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位方式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677" name="Group 6"/>
          <p:cNvGrpSpPr/>
          <p:nvPr/>
        </p:nvGrpSpPr>
        <p:grpSpPr>
          <a:xfrm>
            <a:off x="7548480" y="3589200"/>
            <a:ext cx="1067040" cy="533520"/>
            <a:chOff x="7548480" y="3589200"/>
            <a:chExt cx="1067040" cy="533520"/>
          </a:xfrm>
        </p:grpSpPr>
        <p:sp>
          <p:nvSpPr>
            <p:cNvPr id="678" name="Rectangle 7"/>
            <p:cNvSpPr/>
            <p:nvPr/>
          </p:nvSpPr>
          <p:spPr>
            <a:xfrm>
              <a:off x="7548480" y="3589200"/>
              <a:ext cx="685800" cy="53352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F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79" name="Line 8"/>
            <p:cNvSpPr/>
            <p:nvPr/>
          </p:nvSpPr>
          <p:spPr>
            <a:xfrm>
              <a:off x="8234280" y="3817800"/>
              <a:ext cx="3812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grpSp>
        <p:nvGrpSpPr>
          <p:cNvPr id="680" name="Group 9"/>
          <p:cNvGrpSpPr/>
          <p:nvPr/>
        </p:nvGrpSpPr>
        <p:grpSpPr>
          <a:xfrm>
            <a:off x="235440" y="4038480"/>
            <a:ext cx="1127520" cy="2131560"/>
            <a:chOff x="235440" y="4038480"/>
            <a:chExt cx="1127520" cy="2131560"/>
          </a:xfrm>
        </p:grpSpPr>
        <p:sp>
          <p:nvSpPr>
            <p:cNvPr id="681" name="Text Box 10"/>
            <p:cNvSpPr/>
            <p:nvPr/>
          </p:nvSpPr>
          <p:spPr>
            <a:xfrm>
              <a:off x="560160" y="4038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82" name="Text Box 11"/>
            <p:cNvSpPr/>
            <p:nvPr/>
          </p:nvSpPr>
          <p:spPr>
            <a:xfrm>
              <a:off x="542160" y="4456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R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83" name="Text Box 12"/>
            <p:cNvSpPr/>
            <p:nvPr/>
          </p:nvSpPr>
          <p:spPr>
            <a:xfrm>
              <a:off x="235440" y="503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GATE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84" name="Text Box 13"/>
            <p:cNvSpPr/>
            <p:nvPr/>
          </p:nvSpPr>
          <p:spPr>
            <a:xfrm>
              <a:off x="311400" y="5649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INT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85" name="Line 14"/>
            <p:cNvSpPr/>
            <p:nvPr/>
          </p:nvSpPr>
          <p:spPr>
            <a:xfrm>
              <a:off x="457200" y="5758200"/>
              <a:ext cx="6858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grpSp>
        <p:nvGrpSpPr>
          <p:cNvPr id="686" name="Group 15"/>
          <p:cNvGrpSpPr/>
          <p:nvPr/>
        </p:nvGrpSpPr>
        <p:grpSpPr>
          <a:xfrm>
            <a:off x="1300320" y="3741840"/>
            <a:ext cx="3657600" cy="2209680"/>
            <a:chOff x="1300320" y="3741840"/>
            <a:chExt cx="3657600" cy="2209680"/>
          </a:xfrm>
        </p:grpSpPr>
        <p:sp>
          <p:nvSpPr>
            <p:cNvPr id="687" name="Rectangle 16"/>
            <p:cNvSpPr/>
            <p:nvPr/>
          </p:nvSpPr>
          <p:spPr>
            <a:xfrm>
              <a:off x="1528920" y="4960800"/>
              <a:ext cx="457200" cy="68580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88" name="Rectangle 17"/>
            <p:cNvSpPr/>
            <p:nvPr/>
          </p:nvSpPr>
          <p:spPr>
            <a:xfrm>
              <a:off x="2671920" y="5037120"/>
              <a:ext cx="457200" cy="68580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89" name="Rectangle 18"/>
            <p:cNvSpPr/>
            <p:nvPr/>
          </p:nvSpPr>
          <p:spPr>
            <a:xfrm>
              <a:off x="3662280" y="4656240"/>
              <a:ext cx="457200" cy="68580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&amp;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0" name="Line 19"/>
            <p:cNvSpPr/>
            <p:nvPr/>
          </p:nvSpPr>
          <p:spPr>
            <a:xfrm>
              <a:off x="1300320" y="4427640"/>
              <a:ext cx="26668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1" name="Line 20"/>
            <p:cNvSpPr/>
            <p:nvPr/>
          </p:nvSpPr>
          <p:spPr>
            <a:xfrm flipV="1">
              <a:off x="3967200" y="3970440"/>
              <a:ext cx="0" cy="4572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2" name="Line 21"/>
            <p:cNvSpPr/>
            <p:nvPr/>
          </p:nvSpPr>
          <p:spPr>
            <a:xfrm>
              <a:off x="1300320" y="4808520"/>
              <a:ext cx="23619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3" name="Oval 22"/>
            <p:cNvSpPr/>
            <p:nvPr/>
          </p:nvSpPr>
          <p:spPr>
            <a:xfrm>
              <a:off x="1986120" y="5265720"/>
              <a:ext cx="75960" cy="76320"/>
            </a:xfrm>
            <a:prstGeom prst="ellipse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1300320" y="5342040"/>
              <a:ext cx="2286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5" name="Line 24"/>
            <p:cNvSpPr/>
            <p:nvPr/>
          </p:nvSpPr>
          <p:spPr>
            <a:xfrm>
              <a:off x="2062080" y="5265720"/>
              <a:ext cx="6098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6" name="Line 25"/>
            <p:cNvSpPr/>
            <p:nvPr/>
          </p:nvSpPr>
          <p:spPr>
            <a:xfrm>
              <a:off x="1300320" y="5951520"/>
              <a:ext cx="990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V="1">
              <a:off x="2290680" y="5570640"/>
              <a:ext cx="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2290680" y="5570640"/>
              <a:ext cx="3812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99" name="Line 28"/>
            <p:cNvSpPr/>
            <p:nvPr/>
          </p:nvSpPr>
          <p:spPr>
            <a:xfrm>
              <a:off x="3129120" y="5189400"/>
              <a:ext cx="5331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0" name="Line 29"/>
            <p:cNvSpPr/>
            <p:nvPr/>
          </p:nvSpPr>
          <p:spPr>
            <a:xfrm>
              <a:off x="4119480" y="5037120"/>
              <a:ext cx="8384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1" name="Line 30"/>
            <p:cNvSpPr/>
            <p:nvPr/>
          </p:nvSpPr>
          <p:spPr>
            <a:xfrm flipV="1">
              <a:off x="4957920" y="3741840"/>
              <a:ext cx="0" cy="1295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2" name="Text Box 31"/>
            <p:cNvSpPr/>
            <p:nvPr/>
          </p:nvSpPr>
          <p:spPr>
            <a:xfrm>
              <a:off x="3816360" y="4025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=</a:t>
              </a:r>
              <a:r>
                <a:rPr b="0" lang="en-US" sz="2400" spc="-1" strike="noStrike">
                  <a:solidFill>
                    <a:srgbClr val="0066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grpSp>
        <p:nvGrpSpPr>
          <p:cNvPr id="703" name="Group 32"/>
          <p:cNvGrpSpPr/>
          <p:nvPr/>
        </p:nvGrpSpPr>
        <p:grpSpPr>
          <a:xfrm>
            <a:off x="690480" y="2979720"/>
            <a:ext cx="5181840" cy="1142640"/>
            <a:chOff x="690480" y="2979720"/>
            <a:chExt cx="5181840" cy="1142640"/>
          </a:xfrm>
        </p:grpSpPr>
        <p:sp>
          <p:nvSpPr>
            <p:cNvPr id="704" name="Rectangle 33"/>
            <p:cNvSpPr/>
            <p:nvPr/>
          </p:nvSpPr>
          <p:spPr>
            <a:xfrm>
              <a:off x="690480" y="2979720"/>
              <a:ext cx="1219320" cy="60948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振荡器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5" name="Rectangle 34"/>
            <p:cNvSpPr/>
            <p:nvPr/>
          </p:nvSpPr>
          <p:spPr>
            <a:xfrm>
              <a:off x="2290680" y="2979720"/>
              <a:ext cx="1219320" cy="60948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1/12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6" name="Rectangle 35"/>
            <p:cNvSpPr/>
            <p:nvPr/>
          </p:nvSpPr>
          <p:spPr>
            <a:xfrm>
              <a:off x="4500720" y="3519360"/>
              <a:ext cx="990360" cy="53352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7" name="Line 36"/>
            <p:cNvSpPr/>
            <p:nvPr/>
          </p:nvSpPr>
          <p:spPr>
            <a:xfrm>
              <a:off x="1909800" y="3284640"/>
              <a:ext cx="3808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8" name="Line 37"/>
            <p:cNvSpPr/>
            <p:nvPr/>
          </p:nvSpPr>
          <p:spPr>
            <a:xfrm>
              <a:off x="3510000" y="3284640"/>
              <a:ext cx="4572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09" name="Line 38"/>
            <p:cNvSpPr/>
            <p:nvPr/>
          </p:nvSpPr>
          <p:spPr>
            <a:xfrm>
              <a:off x="3967200" y="3284640"/>
              <a:ext cx="0" cy="4572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0" name="Line 39"/>
            <p:cNvSpPr/>
            <p:nvPr/>
          </p:nvSpPr>
          <p:spPr>
            <a:xfrm>
              <a:off x="4119480" y="3817800"/>
              <a:ext cx="6858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1" name="Line 40"/>
            <p:cNvSpPr/>
            <p:nvPr/>
          </p:nvSpPr>
          <p:spPr>
            <a:xfrm flipV="1">
              <a:off x="3814920" y="3817440"/>
              <a:ext cx="304560" cy="30492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2" name="Line 41"/>
            <p:cNvSpPr/>
            <p:nvPr/>
          </p:nvSpPr>
          <p:spPr>
            <a:xfrm flipV="1">
              <a:off x="4805280" y="3588840"/>
              <a:ext cx="304920" cy="2286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3" name="Line 42"/>
            <p:cNvSpPr/>
            <p:nvPr/>
          </p:nvSpPr>
          <p:spPr>
            <a:xfrm>
              <a:off x="5186520" y="3817800"/>
              <a:ext cx="6858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4" name="Text Box 43"/>
            <p:cNvSpPr/>
            <p:nvPr/>
          </p:nvSpPr>
          <p:spPr>
            <a:xfrm>
              <a:off x="3816360" y="3111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=</a:t>
              </a:r>
              <a:r>
                <a:rPr b="0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5" name="Line 44"/>
            <p:cNvSpPr/>
            <p:nvPr/>
          </p:nvSpPr>
          <p:spPr>
            <a:xfrm>
              <a:off x="4287960" y="3166920"/>
              <a:ext cx="152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6" name="Line 45"/>
            <p:cNvSpPr/>
            <p:nvPr/>
          </p:nvSpPr>
          <p:spPr>
            <a:xfrm>
              <a:off x="4287960" y="4103640"/>
              <a:ext cx="152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grpSp>
        <p:nvGrpSpPr>
          <p:cNvPr id="717" name="Group 46"/>
          <p:cNvGrpSpPr/>
          <p:nvPr/>
        </p:nvGrpSpPr>
        <p:grpSpPr>
          <a:xfrm>
            <a:off x="5864040" y="3589200"/>
            <a:ext cx="1684440" cy="913320"/>
            <a:chOff x="5864040" y="3589200"/>
            <a:chExt cx="1684440" cy="913320"/>
          </a:xfrm>
        </p:grpSpPr>
        <p:sp>
          <p:nvSpPr>
            <p:cNvPr id="718" name="Line 47"/>
            <p:cNvSpPr/>
            <p:nvPr/>
          </p:nvSpPr>
          <p:spPr>
            <a:xfrm>
              <a:off x="7243920" y="3817800"/>
              <a:ext cx="3045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19" name="Rectangle 48"/>
            <p:cNvSpPr/>
            <p:nvPr/>
          </p:nvSpPr>
          <p:spPr>
            <a:xfrm>
              <a:off x="5872320" y="3589200"/>
              <a:ext cx="1371600" cy="533520"/>
            </a:xfrm>
            <a:prstGeom prst="rect">
              <a:avLst/>
            </a:prstGeom>
            <a:noFill/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TL0 TH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20" name="Line 49"/>
            <p:cNvSpPr/>
            <p:nvPr/>
          </p:nvSpPr>
          <p:spPr>
            <a:xfrm>
              <a:off x="6558120" y="3589200"/>
              <a:ext cx="0" cy="53352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21" name="Text Box 50"/>
            <p:cNvSpPr/>
            <p:nvPr/>
          </p:nvSpPr>
          <p:spPr>
            <a:xfrm>
              <a:off x="6689880" y="4103640"/>
              <a:ext cx="5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8</a:t>
              </a:r>
              <a:r>
                <a:rPr b="0" lang="zh-CN" sz="20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位</a:t>
              </a:r>
              <a:endParaRPr b="0" lang="en-US" sz="20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864040" y="4098960"/>
              <a:ext cx="7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低</a:t>
              </a:r>
              <a:r>
                <a:rPr b="0" lang="en-US" sz="20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5</a:t>
              </a:r>
              <a:r>
                <a:rPr b="0" lang="zh-CN" sz="20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位</a:t>
              </a:r>
              <a:endParaRPr b="0" lang="en-US" sz="20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723" name="AutoShape 52"/>
          <p:cNvSpPr/>
          <p:nvPr/>
        </p:nvSpPr>
        <p:spPr>
          <a:xfrm rot="16200000">
            <a:off x="6349680" y="4127400"/>
            <a:ext cx="316080" cy="988920"/>
          </a:xfrm>
          <a:custGeom>
            <a:avLst/>
            <a:gdLst>
              <a:gd name="textAreaLeft" fmla="*/ 201960 w 316080"/>
              <a:gd name="textAreaRight" fmla="*/ 316440 w 316080"/>
              <a:gd name="textAreaTop" fmla="*/ 26640 h 988920"/>
              <a:gd name="textAreaBottom" fmla="*/ 962280 h 98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6"/>
                  <a:pt x="10800" y="1872"/>
                </a:cubicBezTo>
                <a:lnTo>
                  <a:pt x="10800" y="8928"/>
                </a:lnTo>
                <a:cubicBezTo>
                  <a:pt x="10800" y="9864"/>
                  <a:pt x="5400" y="10800"/>
                  <a:pt x="0" y="10800"/>
                </a:cubicBezTo>
                <a:cubicBezTo>
                  <a:pt x="5400" y="10800"/>
                  <a:pt x="10800" y="11736"/>
                  <a:pt x="10800" y="12672"/>
                </a:cubicBezTo>
                <a:lnTo>
                  <a:pt x="10800" y="19728"/>
                </a:lnTo>
                <a:cubicBezTo>
                  <a:pt x="10800" y="206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724" name="Text Box 53"/>
          <p:cNvSpPr/>
          <p:nvPr/>
        </p:nvSpPr>
        <p:spPr>
          <a:xfrm>
            <a:off x="5877720" y="4734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位计数器</a:t>
            </a:r>
            <a:endParaRPr b="0" lang="en-US" sz="24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725" name="AutoShape 54"/>
          <p:cNvSpPr/>
          <p:nvPr/>
        </p:nvSpPr>
        <p:spPr>
          <a:xfrm>
            <a:off x="4572000" y="2438280"/>
            <a:ext cx="1530360" cy="540000"/>
          </a:xfrm>
          <a:prstGeom prst="wedgeEllipseCallout">
            <a:avLst>
              <a:gd name="adj1" fmla="val -37342"/>
              <a:gd name="adj2" fmla="val 92060"/>
            </a:avLst>
          </a:pr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ahoma"/>
                <a:ea typeface="黑体"/>
              </a:rPr>
              <a:t>定时器</a:t>
            </a:r>
            <a:endParaRPr b="0" lang="en-US" sz="24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726" name="AutoShape 55"/>
          <p:cNvSpPr/>
          <p:nvPr/>
        </p:nvSpPr>
        <p:spPr>
          <a:xfrm>
            <a:off x="4527720" y="5678640"/>
            <a:ext cx="1530360" cy="539640"/>
          </a:xfrm>
          <a:prstGeom prst="wedgeEllipseCallout">
            <a:avLst>
              <a:gd name="adj1" fmla="val -41388"/>
              <a:gd name="adj2" fmla="val -282939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ahoma"/>
                <a:ea typeface="黑体"/>
              </a:rPr>
              <a:t>计数器</a:t>
            </a:r>
            <a:endParaRPr b="0" lang="en-US" sz="24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815760" y="711360"/>
            <a:ext cx="37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2).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方式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位方式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728" name="Group 3"/>
          <p:cNvGrpSpPr/>
          <p:nvPr/>
        </p:nvGrpSpPr>
        <p:grpSpPr>
          <a:xfrm>
            <a:off x="311400" y="2092320"/>
            <a:ext cx="8299080" cy="3155760"/>
            <a:chOff x="311400" y="2092320"/>
            <a:chExt cx="8299080" cy="3155760"/>
          </a:xfrm>
        </p:grpSpPr>
        <p:grpSp>
          <p:nvGrpSpPr>
            <p:cNvPr id="729" name="Group 4"/>
            <p:cNvGrpSpPr/>
            <p:nvPr/>
          </p:nvGrpSpPr>
          <p:grpSpPr>
            <a:xfrm>
              <a:off x="311400" y="2092320"/>
              <a:ext cx="8299080" cy="3155760"/>
              <a:chOff x="311400" y="2092320"/>
              <a:chExt cx="8299080" cy="3155760"/>
            </a:xfrm>
          </p:grpSpPr>
          <p:sp>
            <p:nvSpPr>
              <p:cNvPr id="730" name="Rectangle 5"/>
              <p:cNvSpPr/>
              <p:nvPr/>
            </p:nvSpPr>
            <p:spPr>
              <a:xfrm>
                <a:off x="685800" y="2092320"/>
                <a:ext cx="1219320" cy="60948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振荡器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1" name="Rectangle 6"/>
              <p:cNvSpPr/>
              <p:nvPr/>
            </p:nvSpPr>
            <p:spPr>
              <a:xfrm>
                <a:off x="2286000" y="2092320"/>
                <a:ext cx="1219320" cy="60948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1/12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2" name="Rectangle 7"/>
              <p:cNvSpPr/>
              <p:nvPr/>
            </p:nvSpPr>
            <p:spPr>
              <a:xfrm>
                <a:off x="4495680" y="2701800"/>
                <a:ext cx="990720" cy="53352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3" name="Rectangle 8"/>
              <p:cNvSpPr/>
              <p:nvPr/>
            </p:nvSpPr>
            <p:spPr>
              <a:xfrm>
                <a:off x="5867280" y="2701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TL0 TH0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4" name="Rectangle 9"/>
              <p:cNvSpPr/>
              <p:nvPr/>
            </p:nvSpPr>
            <p:spPr>
              <a:xfrm>
                <a:off x="7543800" y="270180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TF0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5" name="Rectangle 10"/>
              <p:cNvSpPr/>
              <p:nvPr/>
            </p:nvSpPr>
            <p:spPr>
              <a:xfrm>
                <a:off x="1523880" y="4073400"/>
                <a:ext cx="457200" cy="68580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6" name="Rectangle 11"/>
              <p:cNvSpPr/>
              <p:nvPr/>
            </p:nvSpPr>
            <p:spPr>
              <a:xfrm>
                <a:off x="2666880" y="4149720"/>
                <a:ext cx="457200" cy="68580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≥</a:t>
                </a:r>
                <a:r>
                  <a:rPr b="0" lang="en-US" sz="24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7" name="Rectangle 12"/>
              <p:cNvSpPr/>
              <p:nvPr/>
            </p:nvSpPr>
            <p:spPr>
              <a:xfrm>
                <a:off x="3657600" y="3768840"/>
                <a:ext cx="457200" cy="685800"/>
              </a:xfrm>
              <a:prstGeom prst="rect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&amp;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8" name="Line 13"/>
              <p:cNvSpPr/>
              <p:nvPr/>
            </p:nvSpPr>
            <p:spPr>
              <a:xfrm>
                <a:off x="1905120" y="2397240"/>
                <a:ext cx="3808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39" name="Line 14"/>
              <p:cNvSpPr/>
              <p:nvPr/>
            </p:nvSpPr>
            <p:spPr>
              <a:xfrm>
                <a:off x="6553080" y="2701800"/>
                <a:ext cx="0" cy="5335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0" name="Line 15"/>
              <p:cNvSpPr/>
              <p:nvPr/>
            </p:nvSpPr>
            <p:spPr>
              <a:xfrm>
                <a:off x="3505320" y="2397240"/>
                <a:ext cx="45720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3962520" y="2397240"/>
                <a:ext cx="0" cy="4572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2" name="Line 17"/>
              <p:cNvSpPr/>
              <p:nvPr/>
            </p:nvSpPr>
            <p:spPr>
              <a:xfrm>
                <a:off x="1295280" y="3540240"/>
                <a:ext cx="266724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3" name="Line 18"/>
              <p:cNvSpPr/>
              <p:nvPr/>
            </p:nvSpPr>
            <p:spPr>
              <a:xfrm flipV="1">
                <a:off x="3962520" y="3083040"/>
                <a:ext cx="0" cy="4572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4" name="Line 19"/>
              <p:cNvSpPr/>
              <p:nvPr/>
            </p:nvSpPr>
            <p:spPr>
              <a:xfrm>
                <a:off x="4114800" y="2930400"/>
                <a:ext cx="68580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5" name="Line 20"/>
              <p:cNvSpPr/>
              <p:nvPr/>
            </p:nvSpPr>
            <p:spPr>
              <a:xfrm flipV="1">
                <a:off x="3809880" y="2930040"/>
                <a:ext cx="304920" cy="304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6" name="Line 21"/>
              <p:cNvSpPr/>
              <p:nvPr/>
            </p:nvSpPr>
            <p:spPr>
              <a:xfrm flipV="1">
                <a:off x="4800600" y="2701440"/>
                <a:ext cx="304920" cy="2286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7" name="Line 22"/>
              <p:cNvSpPr/>
              <p:nvPr/>
            </p:nvSpPr>
            <p:spPr>
              <a:xfrm>
                <a:off x="5181480" y="2930400"/>
                <a:ext cx="68580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8" name="Line 23"/>
              <p:cNvSpPr/>
              <p:nvPr/>
            </p:nvSpPr>
            <p:spPr>
              <a:xfrm>
                <a:off x="1295280" y="3921120"/>
                <a:ext cx="236232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49" name="Oval 24"/>
              <p:cNvSpPr/>
              <p:nvPr/>
            </p:nvSpPr>
            <p:spPr>
              <a:xfrm>
                <a:off x="1981080" y="437832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0" name="Line 25"/>
              <p:cNvSpPr/>
              <p:nvPr/>
            </p:nvSpPr>
            <p:spPr>
              <a:xfrm>
                <a:off x="1295280" y="4454640"/>
                <a:ext cx="22860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1" name="Line 26"/>
              <p:cNvSpPr/>
              <p:nvPr/>
            </p:nvSpPr>
            <p:spPr>
              <a:xfrm>
                <a:off x="2057400" y="4378320"/>
                <a:ext cx="6094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2" name="Line 27"/>
              <p:cNvSpPr/>
              <p:nvPr/>
            </p:nvSpPr>
            <p:spPr>
              <a:xfrm>
                <a:off x="1295280" y="5064120"/>
                <a:ext cx="99072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3" name="Line 28"/>
              <p:cNvSpPr/>
              <p:nvPr/>
            </p:nvSpPr>
            <p:spPr>
              <a:xfrm flipV="1">
                <a:off x="2286000" y="4683240"/>
                <a:ext cx="0" cy="38088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4" name="Line 29"/>
              <p:cNvSpPr/>
              <p:nvPr/>
            </p:nvSpPr>
            <p:spPr>
              <a:xfrm>
                <a:off x="2286000" y="4683240"/>
                <a:ext cx="3808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5" name="Line 30"/>
              <p:cNvSpPr/>
              <p:nvPr/>
            </p:nvSpPr>
            <p:spPr>
              <a:xfrm>
                <a:off x="3124080" y="4302000"/>
                <a:ext cx="53352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6" name="Line 31"/>
              <p:cNvSpPr/>
              <p:nvPr/>
            </p:nvSpPr>
            <p:spPr>
              <a:xfrm>
                <a:off x="7238880" y="2930400"/>
                <a:ext cx="30492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7" name="Line 32"/>
              <p:cNvSpPr/>
              <p:nvPr/>
            </p:nvSpPr>
            <p:spPr>
              <a:xfrm>
                <a:off x="8229600" y="2930400"/>
                <a:ext cx="3808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8" name="Text Box 33"/>
              <p:cNvSpPr/>
              <p:nvPr/>
            </p:nvSpPr>
            <p:spPr>
              <a:xfrm>
                <a:off x="636120" y="31273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T0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59" name="Text Box 34"/>
              <p:cNvSpPr/>
              <p:nvPr/>
            </p:nvSpPr>
            <p:spPr>
              <a:xfrm>
                <a:off x="618480" y="35431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TR0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311400" y="4118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GATE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1" name="Text Box 36"/>
              <p:cNvSpPr/>
              <p:nvPr/>
            </p:nvSpPr>
            <p:spPr>
              <a:xfrm>
                <a:off x="387720" y="47275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INT0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2" name="Line 37"/>
              <p:cNvSpPr/>
              <p:nvPr/>
            </p:nvSpPr>
            <p:spPr>
              <a:xfrm>
                <a:off x="533520" y="4835520"/>
                <a:ext cx="68580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3" name="Line 38"/>
              <p:cNvSpPr/>
              <p:nvPr/>
            </p:nvSpPr>
            <p:spPr>
              <a:xfrm>
                <a:off x="4114800" y="4149720"/>
                <a:ext cx="8380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4" name="Line 39"/>
              <p:cNvSpPr/>
              <p:nvPr/>
            </p:nvSpPr>
            <p:spPr>
              <a:xfrm flipV="1">
                <a:off x="4952880" y="2854440"/>
                <a:ext cx="0" cy="129528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5" name="Text Box 40"/>
              <p:cNvSpPr/>
              <p:nvPr/>
            </p:nvSpPr>
            <p:spPr>
              <a:xfrm>
                <a:off x="3799080" y="21715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C/T=0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6" name="Line 41"/>
              <p:cNvSpPr/>
              <p:nvPr/>
            </p:nvSpPr>
            <p:spPr>
              <a:xfrm>
                <a:off x="4282920" y="2279520"/>
                <a:ext cx="15264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7" name="Text Box 42"/>
              <p:cNvSpPr/>
              <p:nvPr/>
            </p:nvSpPr>
            <p:spPr>
              <a:xfrm>
                <a:off x="3799080" y="30859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C/T=1</a:t>
                </a:r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  <p:sp>
            <p:nvSpPr>
              <p:cNvPr id="768" name="Line 43"/>
              <p:cNvSpPr/>
              <p:nvPr/>
            </p:nvSpPr>
            <p:spPr>
              <a:xfrm>
                <a:off x="4282920" y="3193920"/>
                <a:ext cx="15264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7a77"/>
                  </a:solidFill>
                  <a:latin typeface="黑体"/>
                </a:endParaRPr>
              </a:p>
            </p:txBody>
          </p:sp>
        </p:grpSp>
        <p:sp>
          <p:nvSpPr>
            <p:cNvPr id="769" name="Text Box 44"/>
            <p:cNvSpPr/>
            <p:nvPr/>
          </p:nvSpPr>
          <p:spPr>
            <a:xfrm>
              <a:off x="6685920" y="3127320"/>
              <a:ext cx="69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8</a:t>
              </a:r>
              <a:r>
                <a:rPr b="0" lang="zh-CN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位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70" name="Text Box 45"/>
            <p:cNvSpPr/>
            <p:nvPr/>
          </p:nvSpPr>
          <p:spPr>
            <a:xfrm>
              <a:off x="5955840" y="3114720"/>
              <a:ext cx="69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8</a:t>
              </a:r>
              <a:r>
                <a:rPr b="0" lang="zh-CN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位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71" name="AutoShape 46"/>
            <p:cNvSpPr/>
            <p:nvPr/>
          </p:nvSpPr>
          <p:spPr>
            <a:xfrm rot="16200000">
              <a:off x="6486480" y="3279600"/>
              <a:ext cx="316080" cy="989280"/>
            </a:xfrm>
            <a:custGeom>
              <a:avLst/>
              <a:gdLst>
                <a:gd name="textAreaLeft" fmla="*/ 201960 w 316080"/>
                <a:gd name="textAreaRight" fmla="*/ 316440 w 316080"/>
                <a:gd name="textAreaTop" fmla="*/ 26640 h 989280"/>
                <a:gd name="textAreaBottom" fmla="*/ 962640 h 98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36"/>
                    <a:pt x="10800" y="1872"/>
                  </a:cubicBezTo>
                  <a:lnTo>
                    <a:pt x="10800" y="8928"/>
                  </a:lnTo>
                  <a:cubicBezTo>
                    <a:pt x="10800" y="9864"/>
                    <a:pt x="5400" y="10800"/>
                    <a:pt x="0" y="10800"/>
                  </a:cubicBezTo>
                  <a:cubicBezTo>
                    <a:pt x="5400" y="10800"/>
                    <a:pt x="10800" y="11736"/>
                    <a:pt x="10800" y="12672"/>
                  </a:cubicBezTo>
                  <a:lnTo>
                    <a:pt x="10800" y="19728"/>
                  </a:lnTo>
                  <a:cubicBezTo>
                    <a:pt x="10800" y="2066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72" name="Text Box 47"/>
            <p:cNvSpPr/>
            <p:nvPr/>
          </p:nvSpPr>
          <p:spPr>
            <a:xfrm>
              <a:off x="6014160" y="38862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16</a:t>
              </a:r>
              <a:r>
                <a:rPr b="0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位计数器</a:t>
              </a:r>
              <a:endParaRPr b="0" lang="en-US" sz="24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402560" y="13208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3).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方式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位自动装入时间常数方式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774" name="Group 3"/>
          <p:cNvGrpSpPr/>
          <p:nvPr/>
        </p:nvGrpSpPr>
        <p:grpSpPr>
          <a:xfrm>
            <a:off x="7620120" y="3048120"/>
            <a:ext cx="1066680" cy="533160"/>
            <a:chOff x="7620120" y="3048120"/>
            <a:chExt cx="1066680" cy="533160"/>
          </a:xfrm>
        </p:grpSpPr>
        <p:sp>
          <p:nvSpPr>
            <p:cNvPr id="775" name="Rectangle 4"/>
            <p:cNvSpPr/>
            <p:nvPr/>
          </p:nvSpPr>
          <p:spPr>
            <a:xfrm>
              <a:off x="7620120" y="3048120"/>
              <a:ext cx="685800" cy="53316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F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76" name="Line 5"/>
            <p:cNvSpPr/>
            <p:nvPr/>
          </p:nvSpPr>
          <p:spPr>
            <a:xfrm>
              <a:off x="8305920" y="3276720"/>
              <a:ext cx="3808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grpSp>
        <p:nvGrpSpPr>
          <p:cNvPr id="777" name="Group 6"/>
          <p:cNvGrpSpPr/>
          <p:nvPr/>
        </p:nvGrpSpPr>
        <p:grpSpPr>
          <a:xfrm>
            <a:off x="387720" y="2438280"/>
            <a:ext cx="5555880" cy="3155760"/>
            <a:chOff x="387720" y="2438280"/>
            <a:chExt cx="5555880" cy="3155760"/>
          </a:xfrm>
        </p:grpSpPr>
        <p:sp>
          <p:nvSpPr>
            <p:cNvPr id="778" name="Rectangle 7"/>
            <p:cNvSpPr/>
            <p:nvPr/>
          </p:nvSpPr>
          <p:spPr>
            <a:xfrm>
              <a:off x="762120" y="2438280"/>
              <a:ext cx="1218960" cy="60984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振荡器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79" name="Rectangle 8"/>
            <p:cNvSpPr/>
            <p:nvPr/>
          </p:nvSpPr>
          <p:spPr>
            <a:xfrm>
              <a:off x="2362320" y="2438280"/>
              <a:ext cx="1218960" cy="60984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1/12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0" name="Rectangle 9"/>
            <p:cNvSpPr/>
            <p:nvPr/>
          </p:nvSpPr>
          <p:spPr>
            <a:xfrm>
              <a:off x="4572000" y="3048120"/>
              <a:ext cx="990720" cy="53316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1" name="Rectangle 10"/>
            <p:cNvSpPr/>
            <p:nvPr/>
          </p:nvSpPr>
          <p:spPr>
            <a:xfrm>
              <a:off x="1600200" y="4419720"/>
              <a:ext cx="457200" cy="68580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2" name="Rectangle 11"/>
            <p:cNvSpPr/>
            <p:nvPr/>
          </p:nvSpPr>
          <p:spPr>
            <a:xfrm>
              <a:off x="2743200" y="4495680"/>
              <a:ext cx="457200" cy="68580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≥</a:t>
              </a: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3" name="Rectangle 12"/>
            <p:cNvSpPr/>
            <p:nvPr/>
          </p:nvSpPr>
          <p:spPr>
            <a:xfrm>
              <a:off x="3733920" y="4114800"/>
              <a:ext cx="457200" cy="68580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&amp;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4" name="Line 13"/>
            <p:cNvSpPr/>
            <p:nvPr/>
          </p:nvSpPr>
          <p:spPr>
            <a:xfrm>
              <a:off x="1981080" y="2743200"/>
              <a:ext cx="3812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5" name="Line 14"/>
            <p:cNvSpPr/>
            <p:nvPr/>
          </p:nvSpPr>
          <p:spPr>
            <a:xfrm>
              <a:off x="3581280" y="2743200"/>
              <a:ext cx="45720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6" name="Line 15"/>
            <p:cNvSpPr/>
            <p:nvPr/>
          </p:nvSpPr>
          <p:spPr>
            <a:xfrm>
              <a:off x="4038480" y="2743200"/>
              <a:ext cx="0" cy="4572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7" name="Line 16"/>
            <p:cNvSpPr/>
            <p:nvPr/>
          </p:nvSpPr>
          <p:spPr>
            <a:xfrm>
              <a:off x="1371600" y="3886200"/>
              <a:ext cx="26668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8" name="Line 17"/>
            <p:cNvSpPr/>
            <p:nvPr/>
          </p:nvSpPr>
          <p:spPr>
            <a:xfrm flipV="1">
              <a:off x="4038480" y="3429000"/>
              <a:ext cx="0" cy="4572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89" name="Line 18"/>
            <p:cNvSpPr/>
            <p:nvPr/>
          </p:nvSpPr>
          <p:spPr>
            <a:xfrm>
              <a:off x="4191120" y="3276720"/>
              <a:ext cx="68580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0" name="Line 19"/>
            <p:cNvSpPr/>
            <p:nvPr/>
          </p:nvSpPr>
          <p:spPr>
            <a:xfrm flipV="1">
              <a:off x="3886200" y="3276720"/>
              <a:ext cx="304920" cy="3045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1" name="Line 20"/>
            <p:cNvSpPr/>
            <p:nvPr/>
          </p:nvSpPr>
          <p:spPr>
            <a:xfrm flipV="1">
              <a:off x="4876920" y="3047760"/>
              <a:ext cx="304560" cy="2286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2" name="Line 21"/>
            <p:cNvSpPr/>
            <p:nvPr/>
          </p:nvSpPr>
          <p:spPr>
            <a:xfrm>
              <a:off x="5257800" y="3276720"/>
              <a:ext cx="68580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3" name="Line 22"/>
            <p:cNvSpPr/>
            <p:nvPr/>
          </p:nvSpPr>
          <p:spPr>
            <a:xfrm>
              <a:off x="1371600" y="4267080"/>
              <a:ext cx="23623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4" name="Oval 23"/>
            <p:cNvSpPr/>
            <p:nvPr/>
          </p:nvSpPr>
          <p:spPr>
            <a:xfrm>
              <a:off x="2057400" y="4724280"/>
              <a:ext cx="76320" cy="76320"/>
            </a:xfrm>
            <a:prstGeom prst="ellipse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5" name="Line 24"/>
            <p:cNvSpPr/>
            <p:nvPr/>
          </p:nvSpPr>
          <p:spPr>
            <a:xfrm>
              <a:off x="1371600" y="4800600"/>
              <a:ext cx="22860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6" name="Line 25"/>
            <p:cNvSpPr/>
            <p:nvPr/>
          </p:nvSpPr>
          <p:spPr>
            <a:xfrm>
              <a:off x="2133720" y="4724280"/>
              <a:ext cx="6094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7" name="Line 26"/>
            <p:cNvSpPr/>
            <p:nvPr/>
          </p:nvSpPr>
          <p:spPr>
            <a:xfrm>
              <a:off x="1371600" y="5410080"/>
              <a:ext cx="990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8" name="Line 27"/>
            <p:cNvSpPr/>
            <p:nvPr/>
          </p:nvSpPr>
          <p:spPr>
            <a:xfrm flipV="1">
              <a:off x="2362320" y="5029200"/>
              <a:ext cx="0" cy="38088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799" name="Line 28"/>
            <p:cNvSpPr/>
            <p:nvPr/>
          </p:nvSpPr>
          <p:spPr>
            <a:xfrm>
              <a:off x="2362320" y="5029200"/>
              <a:ext cx="3808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0" name="Line 29"/>
            <p:cNvSpPr/>
            <p:nvPr/>
          </p:nvSpPr>
          <p:spPr>
            <a:xfrm>
              <a:off x="3200400" y="4648320"/>
              <a:ext cx="5335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1" name="Text Box 30"/>
            <p:cNvSpPr/>
            <p:nvPr/>
          </p:nvSpPr>
          <p:spPr>
            <a:xfrm>
              <a:off x="712440" y="3473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2" name="Text Box 31"/>
            <p:cNvSpPr/>
            <p:nvPr/>
          </p:nvSpPr>
          <p:spPr>
            <a:xfrm>
              <a:off x="694800" y="38894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R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3" name="Text Box 32"/>
            <p:cNvSpPr/>
            <p:nvPr/>
          </p:nvSpPr>
          <p:spPr>
            <a:xfrm>
              <a:off x="387720" y="4464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GATE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4" name="Text Box 33"/>
            <p:cNvSpPr/>
            <p:nvPr/>
          </p:nvSpPr>
          <p:spPr>
            <a:xfrm>
              <a:off x="464040" y="507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INT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5" name="Line 34"/>
            <p:cNvSpPr/>
            <p:nvPr/>
          </p:nvSpPr>
          <p:spPr>
            <a:xfrm>
              <a:off x="609480" y="5181480"/>
              <a:ext cx="68580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6" name="Line 35"/>
            <p:cNvSpPr/>
            <p:nvPr/>
          </p:nvSpPr>
          <p:spPr>
            <a:xfrm>
              <a:off x="4191120" y="4495680"/>
              <a:ext cx="8380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7" name="Line 36"/>
            <p:cNvSpPr/>
            <p:nvPr/>
          </p:nvSpPr>
          <p:spPr>
            <a:xfrm flipV="1">
              <a:off x="5029200" y="3200400"/>
              <a:ext cx="0" cy="129528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8" name="Text Box 37"/>
            <p:cNvSpPr/>
            <p:nvPr/>
          </p:nvSpPr>
          <p:spPr>
            <a:xfrm>
              <a:off x="3875400" y="25178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=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4359240" y="2625840"/>
              <a:ext cx="152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0" name="Text Box 39"/>
            <p:cNvSpPr/>
            <p:nvPr/>
          </p:nvSpPr>
          <p:spPr>
            <a:xfrm>
              <a:off x="3875400" y="34322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C/T=1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>
              <a:off x="4359240" y="3540240"/>
              <a:ext cx="152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grpSp>
        <p:nvGrpSpPr>
          <p:cNvPr id="812" name="Group 41"/>
          <p:cNvGrpSpPr/>
          <p:nvPr/>
        </p:nvGrpSpPr>
        <p:grpSpPr>
          <a:xfrm>
            <a:off x="5943600" y="3048120"/>
            <a:ext cx="1676520" cy="1752480"/>
            <a:chOff x="5943600" y="3048120"/>
            <a:chExt cx="1676520" cy="1752480"/>
          </a:xfrm>
        </p:grpSpPr>
        <p:sp>
          <p:nvSpPr>
            <p:cNvPr id="813" name="Rectangle 42"/>
            <p:cNvSpPr/>
            <p:nvPr/>
          </p:nvSpPr>
          <p:spPr>
            <a:xfrm>
              <a:off x="5943600" y="3048120"/>
              <a:ext cx="1371600" cy="53316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L0 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4" name="Line 43"/>
            <p:cNvSpPr/>
            <p:nvPr/>
          </p:nvSpPr>
          <p:spPr>
            <a:xfrm>
              <a:off x="7315200" y="3276720"/>
              <a:ext cx="3049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5" name="Rectangle 44"/>
            <p:cNvSpPr/>
            <p:nvPr/>
          </p:nvSpPr>
          <p:spPr>
            <a:xfrm>
              <a:off x="5943600" y="4267080"/>
              <a:ext cx="1371600" cy="53352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TH0</a:t>
              </a: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6" name="AutoShape 45"/>
            <p:cNvSpPr/>
            <p:nvPr/>
          </p:nvSpPr>
          <p:spPr>
            <a:xfrm>
              <a:off x="6400800" y="3809880"/>
              <a:ext cx="30492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7" name="Line 46"/>
            <p:cNvSpPr/>
            <p:nvPr/>
          </p:nvSpPr>
          <p:spPr>
            <a:xfrm flipV="1">
              <a:off x="6553080" y="4038120"/>
              <a:ext cx="0" cy="2286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8" name="Line 47"/>
            <p:cNvSpPr/>
            <p:nvPr/>
          </p:nvSpPr>
          <p:spPr>
            <a:xfrm flipV="1">
              <a:off x="6553080" y="3580920"/>
              <a:ext cx="0" cy="2286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19" name="Line 48"/>
            <p:cNvSpPr/>
            <p:nvPr/>
          </p:nvSpPr>
          <p:spPr>
            <a:xfrm>
              <a:off x="7391520" y="3276720"/>
              <a:ext cx="0" cy="6858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820" name="Line 49"/>
            <p:cNvSpPr/>
            <p:nvPr/>
          </p:nvSpPr>
          <p:spPr>
            <a:xfrm>
              <a:off x="6629400" y="3962520"/>
              <a:ext cx="7621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2"/>
          <p:cNvSpPr/>
          <p:nvPr/>
        </p:nvSpPr>
        <p:spPr>
          <a:xfrm>
            <a:off x="900000" y="119700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4).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方式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位方式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746280" y="1943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仅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可以工作在方式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3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此时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分成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个独立的计数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—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L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H0 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，前者用原来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控制信号（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R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F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），后者用原来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1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控制信号（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R1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F1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ac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39ac"/>
                </a:solidFill>
                <a:latin typeface="宋体"/>
              </a:rPr>
              <a:t>．计数器初值的计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设计数器的最大计数值为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M(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根据不同工作方式，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可以是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则计算初值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的公式如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X=M-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要求的计数值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301320" y="819000"/>
            <a:ext cx="714996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四、定时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计数器常数的计算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ac"/>
                </a:solidFill>
                <a:latin typeface="Arial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0039ac"/>
                </a:solidFill>
                <a:latin typeface="黑体"/>
                <a:ea typeface="黑体"/>
              </a:rPr>
              <a:t>．定时器初值的计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在定时器模式下，计数器由单片机主脉冲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fosc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经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分频后计数。因此，定时器定时初值计算公式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X=M-(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要求的定时值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)/(12/fosc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式中，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M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为定时器模值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根据不同工作方式，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可以是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304920" y="380880"/>
            <a:ext cx="83818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采用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Proteus  ISIS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绘制实验电路图，元件列表见表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4-8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326880" y="603360"/>
            <a:ext cx="838224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(2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编写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程序，采用单片机内部定时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计数器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T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T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工作在计数器模式，外部事件脉冲由外部引脚引入定时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计数器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T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P3.4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，即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T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用来检测外部脉冲数，将其计数结果送给数码管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以内）显示出来。实验程序流程图如图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4-35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所示，硬件连接如表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4-9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3290760" y="246240"/>
            <a:ext cx="2565360" cy="2801880"/>
          </a:xfrm>
          <a:prstGeom prst="rect">
            <a:avLst/>
          </a:prstGeom>
          <a:ln w="0">
            <a:noFill/>
          </a:ln>
        </p:spPr>
      </p:pic>
      <p:sp>
        <p:nvSpPr>
          <p:cNvPr id="578" name="矩形 3"/>
          <p:cNvSpPr/>
          <p:nvPr/>
        </p:nvSpPr>
        <p:spPr>
          <a:xfrm>
            <a:off x="3352680" y="304812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黑体"/>
                <a:ea typeface="黑体"/>
              </a:rPr>
              <a:t>计数器程序流程图</a:t>
            </a:r>
            <a:endParaRPr b="0" lang="en-US" sz="1600" spc="-1" strike="noStrike">
              <a:solidFill>
                <a:srgbClr val="007a77"/>
              </a:solidFill>
              <a:latin typeface="黑体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2"/>
          <a:stretch/>
        </p:blipFill>
        <p:spPr>
          <a:xfrm>
            <a:off x="-609480" y="3906720"/>
            <a:ext cx="103662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152280" y="228600"/>
            <a:ext cx="8839440" cy="205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采用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Proteus  ISIS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绘制实验电路图，编写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程序，采用单片机内部定时计数器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T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T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工作在定时模式，单片机的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P10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接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发光二极管，运行程序，控制发光二极管闪烁，时间间隔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S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即实现单片机内部定时器定时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S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内部计数器用于定时器时，是对机器周期计数。可根据单片机每个机器周期的长度、时钟晶振频率以及定时时间对定时常数进行计算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pic>
        <p:nvPicPr>
          <p:cNvPr id="581" name="Picture 185" descr=""/>
          <p:cNvPicPr/>
          <p:nvPr/>
        </p:nvPicPr>
        <p:blipFill>
          <a:blip r:embed="rId1"/>
          <a:stretch/>
        </p:blipFill>
        <p:spPr>
          <a:xfrm>
            <a:off x="-1143000" y="3726000"/>
            <a:ext cx="114235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42520" cy="493524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4653000" y="701640"/>
            <a:ext cx="3962520" cy="4532400"/>
            <a:chOff x="4653000" y="701640"/>
            <a:chExt cx="3962520" cy="4532400"/>
          </a:xfrm>
        </p:grpSpPr>
        <p:sp>
          <p:nvSpPr>
            <p:cNvPr id="585" name="AutoShape 25"/>
            <p:cNvSpPr/>
            <p:nvPr/>
          </p:nvSpPr>
          <p:spPr>
            <a:xfrm>
              <a:off x="4881240" y="701640"/>
              <a:ext cx="2282760" cy="339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定时中断入口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86" name="AutoShape 24"/>
            <p:cNvSpPr/>
            <p:nvPr/>
          </p:nvSpPr>
          <p:spPr>
            <a:xfrm>
              <a:off x="4881240" y="1267920"/>
              <a:ext cx="2054520" cy="339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保护现场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87" name="AutoShape 23"/>
            <p:cNvSpPr/>
            <p:nvPr/>
          </p:nvSpPr>
          <p:spPr>
            <a:xfrm>
              <a:off x="4881240" y="1834560"/>
              <a:ext cx="2282760" cy="339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秒计数值减</a:t>
              </a:r>
              <a:r>
                <a:rPr b="0" lang="en-US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88" name="AutoShape 22"/>
            <p:cNvSpPr/>
            <p:nvPr/>
          </p:nvSpPr>
          <p:spPr>
            <a:xfrm>
              <a:off x="4653000" y="3194280"/>
              <a:ext cx="2739600" cy="339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重新设置秒计数值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89" name="AutoShape 21"/>
            <p:cNvSpPr/>
            <p:nvPr/>
          </p:nvSpPr>
          <p:spPr>
            <a:xfrm>
              <a:off x="4655520" y="2401200"/>
              <a:ext cx="2739600" cy="5662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计到</a:t>
              </a:r>
              <a:r>
                <a:rPr b="0" lang="en-US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1S</a:t>
              </a: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？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0" name="AutoShape 20"/>
            <p:cNvSpPr/>
            <p:nvPr/>
          </p:nvSpPr>
          <p:spPr>
            <a:xfrm>
              <a:off x="4881240" y="3760920"/>
              <a:ext cx="2282760" cy="339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状态位取反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1" name="AutoShape 19"/>
            <p:cNvSpPr/>
            <p:nvPr/>
          </p:nvSpPr>
          <p:spPr>
            <a:xfrm>
              <a:off x="4881240" y="4327560"/>
              <a:ext cx="2282760" cy="3394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恢复现场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2" name="AutoShape 18"/>
            <p:cNvSpPr/>
            <p:nvPr/>
          </p:nvSpPr>
          <p:spPr>
            <a:xfrm>
              <a:off x="5109480" y="4894200"/>
              <a:ext cx="1826280" cy="339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中断返回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3" name="Line 17"/>
            <p:cNvSpPr/>
            <p:nvPr/>
          </p:nvSpPr>
          <p:spPr>
            <a:xfrm>
              <a:off x="6022440" y="1041480"/>
              <a:ext cx="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4" name="Line 16"/>
            <p:cNvSpPr/>
            <p:nvPr/>
          </p:nvSpPr>
          <p:spPr>
            <a:xfrm>
              <a:off x="5965560" y="1607400"/>
              <a:ext cx="1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5" name="Line 15"/>
            <p:cNvSpPr/>
            <p:nvPr/>
          </p:nvSpPr>
          <p:spPr>
            <a:xfrm>
              <a:off x="6022440" y="2174040"/>
              <a:ext cx="1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022440" y="2967840"/>
              <a:ext cx="1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7" name="Line 13"/>
            <p:cNvSpPr/>
            <p:nvPr/>
          </p:nvSpPr>
          <p:spPr>
            <a:xfrm>
              <a:off x="6022440" y="3533760"/>
              <a:ext cx="1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8" name="Line 12"/>
            <p:cNvSpPr/>
            <p:nvPr/>
          </p:nvSpPr>
          <p:spPr>
            <a:xfrm>
              <a:off x="6022440" y="4100040"/>
              <a:ext cx="1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6022440" y="4666680"/>
              <a:ext cx="1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6104160" y="2666520"/>
              <a:ext cx="2511360" cy="1546920"/>
            </a:xfrm>
            <a:custGeom>
              <a:avLst/>
              <a:gdLst/>
              <a:ahLst/>
              <a:rect l="l" t="t" r="r" b="b"/>
              <a:pathLst>
                <a:path w="1980" h="2130">
                  <a:moveTo>
                    <a:pt x="990" y="0"/>
                  </a:moveTo>
                  <a:lnTo>
                    <a:pt x="1980" y="0"/>
                  </a:lnTo>
                  <a:lnTo>
                    <a:pt x="1965" y="2130"/>
                  </a:lnTo>
                  <a:lnTo>
                    <a:pt x="0" y="2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01" name="Text Box 9"/>
            <p:cNvSpPr/>
            <p:nvPr/>
          </p:nvSpPr>
          <p:spPr>
            <a:xfrm>
              <a:off x="6555240" y="2839320"/>
              <a:ext cx="685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是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  <p:sp>
          <p:nvSpPr>
            <p:cNvPr id="602" name="Text Box 8"/>
            <p:cNvSpPr/>
            <p:nvPr/>
          </p:nvSpPr>
          <p:spPr>
            <a:xfrm>
              <a:off x="7392600" y="2287800"/>
              <a:ext cx="76104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否</a:t>
              </a:r>
              <a:endParaRPr b="0" lang="en-US" sz="1600" spc="-1" strike="noStrike">
                <a:solidFill>
                  <a:srgbClr val="007a77"/>
                </a:solidFill>
                <a:latin typeface="黑体"/>
              </a:endParaRPr>
            </a:p>
          </p:txBody>
        </p:sp>
      </p:grpSp>
      <p:sp>
        <p:nvSpPr>
          <p:cNvPr id="603" name="矩形 23"/>
          <p:cNvSpPr/>
          <p:nvPr/>
        </p:nvSpPr>
        <p:spPr>
          <a:xfrm>
            <a:off x="1003320" y="5638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定时器主程序流程图</a:t>
            </a:r>
            <a:endParaRPr b="0" lang="en-US" sz="20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04" name="矩形 24"/>
          <p:cNvSpPr/>
          <p:nvPr/>
        </p:nvSpPr>
        <p:spPr>
          <a:xfrm>
            <a:off x="4419720" y="5572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宋体"/>
              </a:rPr>
              <a:t>定时器中断服务程序流程图</a:t>
            </a:r>
            <a:endParaRPr b="0" lang="en-US" sz="20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8920" y="237600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定时器</a:t>
            </a:r>
            <a:r>
              <a:rPr b="1" lang="en-US" sz="4400" spc="-1" strike="noStrike">
                <a:solidFill>
                  <a:srgbClr val="0039ac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计数器的工作方式与控制</a:t>
            </a: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522360" y="863640"/>
            <a:ext cx="83246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805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单片机有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个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16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位的定时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计数器：定时器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）和定时器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）。它们都有定时器或事件计数的功能，可用于定时控制、延时、对外部事件计数和检测等场合。</a:t>
            </a:r>
            <a:endParaRPr b="0" lang="en-US" sz="3200" spc="-1" strike="noStrike">
              <a:solidFill>
                <a:srgbClr val="007a77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由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个特殊功能寄存器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H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L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构成，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则由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H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L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构成。作计数器时，通过引脚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P3.4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）和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T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P3.5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）对外部脉冲信号计数，当输入脉冲信号从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到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0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的负跳变时，计数器就自动加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。计数的最高频率一般为振荡频率的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1/24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2003400" y="746280"/>
            <a:ext cx="39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、定时器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计数器的功能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838080" y="4570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在特殊功能寄存器</a:t>
            </a:r>
            <a:r>
              <a:rPr b="0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TMOD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中，有一个控制位（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／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），分别用于控制定时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计数器工作在</a:t>
            </a: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定时器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方式还是</a:t>
            </a: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计数器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方式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795240" y="23716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时功能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----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计数输入信号是内部时钟脉冲，每个</a:t>
            </a:r>
            <a:r>
              <a:rPr b="0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机器周期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使技数器的值加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83664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计数功能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----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计数脉冲来自相应的</a:t>
            </a:r>
            <a:r>
              <a:rPr b="0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外部输入引脚，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为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3.4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1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为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3.5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1295280" y="1533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定时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计数器的核心部件是</a:t>
            </a: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二进制加</a:t>
            </a:r>
            <a:r>
              <a:rPr b="0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计数器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(TH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L0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H1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TL1) </a:t>
            </a:r>
            <a:r>
              <a:rPr b="0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5-25T07:38:05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