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075-0776-4131-B8C3-96DB6C69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24B-E68C-4837-994E-ED0128F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6C9-2516-4805-9BBE-9B5DBFC5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9E5-00D1-4C12-A035-E69FDAC3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33A5-7386-4900-9575-6660A308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35E3-3B2B-4029-91ED-4BBB985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FDAE-5C3F-4EEF-841B-2D8FB8A9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6563-D4EC-4B16-94B9-65E3F49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DF5C-AB98-4107-A597-C555404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C643-830A-451E-B07B-ED8DB41C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27B-0369-46B2-9FBD-07E9495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B43-993F-4BCE-8E87-195587B2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969-C295-4C07-8B37-875D7A5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FF6-E855-4D75-9C41-BA8496F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2214-CD96-4341-AF17-E70C7EA3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3AED-FB04-4C27-B8D3-0C1D38AC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080-A815-433F-9058-0E7A7225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675B-9331-42AB-85D9-8C5D9318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E12F-DCEB-4F02-873A-545B4D81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3DD8-FDD3-43D5-ADED-36135B99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001E-8F57-470D-9EAE-5F059D52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00E7-6CE9-45CB-AE29-16FD89B7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0F0-9A33-4936-B53E-065F173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9A29-FE81-44E3-BFC0-1855C2B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F432-5248-4A82-ABE0-2B48CC1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E108-F64E-4E7B-A783-7564F10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F4A7-6E6B-4544-84F2-4B450CC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B9B8-946D-4866-842F-26EB552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1A3B-AF74-4B5E-92B2-DF384440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C665-BFD6-40F4-8159-9F8F9793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CCB-B6F7-4FE2-8B3B-796B84F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87F-048C-45C6-91D0-816172B2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183-8CF4-46C5-A3BE-13945552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A4D-1FC8-4BBE-80AB-E2C7A9D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CED-BCE4-422F-BC24-D4D1E4D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338-0E51-4B7D-84BD-C4DFA63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EE8E-1715-4E96-B9AC-1923884F4842}" type="datetime">
              <a: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DEC-DE58-40D9-8AB6-EDDDBC5F817C}" type="slidenum"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416-1643-4622-B224-26BE58332FF0}" type="datetime">
              <a: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9C7C-F389-4316-98C3-44418E5FA8F2}" type="slidenum"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34C4-3F5E-4FF9-9AAE-8402E06AB4CF}" type="datetime">
              <a: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82AC-DADB-469E-AF8A-B3B77EAB7FE3}" type="slidenum"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54356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中央空调作为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被控对象的实验建模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与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ID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参数整定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实验步骤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依次双击选中的模块，进行相应参数的修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利用鼠标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r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键，完成模块之间的连接，搭接成所仿真的系统模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点击工具条中的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guratio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下拉菜单中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 paramet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里修改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 tim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点击工具条中的“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，双击模块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p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观察并记录中的系统响应曲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428760" y="1071720"/>
            <a:ext cx="8569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．加入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控制的系统响应和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参数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为步骤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建立的系统加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控制模块，对该系统进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控制仿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模块库中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 Additional Linea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选择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 controll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块，将其拖曳至模块文件编辑界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该控制模块置于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Fc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之间。双击该模块可以进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控制的三个参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设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2227320" y="1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428760" y="1071720"/>
            <a:ext cx="87152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．加入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控制的系统响应和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参数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数整定（本次只整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实验中主要应用基于临界比例度法的经验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确定比例增益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控制模块变为纯比例调节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逐渐增大，直至系统出现振荡（等幅振荡或振幅越来越大）；再反过来，逐渐减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直至系统振荡消失，记录此时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max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设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D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比例增益为当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值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％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％。比例增益调试基本完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2227320" y="1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395280" y="1125360"/>
            <a:ext cx="85694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确定积分时间常数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或积分系数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倒数关系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/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例增益确定后，设定一个较小的积分系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初值，然后逐渐增大积分系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直至系统出现振荡；之后再反过来，逐渐减小积分系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直至系统振荡消失。记录此时的积分系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x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设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积分系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当前值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.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积分时间常数调试完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95280" y="1125360"/>
            <a:ext cx="856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参数微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系统响应曲线情况，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数进行微调，直至满足控制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控制要求：系统超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记录满足控制要求的系统响应曲线，记录此时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实验总结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000" y="1385640"/>
            <a:ext cx="8497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．总结为中央空调系统的空气处理机组进行数学建模的计算过程。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．画出搭接的仿真系统方框图（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控制）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．记录经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控制后的空气机组阶跃响应曲线（稳定）。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84360" y="1341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掌握响应曲线法建立数学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通过一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数的整定方法，熟悉并掌握对单回路控制系统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数整定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设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900000" y="126828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BA-AF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央空调系统实验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秒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74560" y="1071720"/>
            <a:ext cx="85694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．测取实验数据（此数据由给定表格提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本次实验针对空调系统的空气机组进行建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该空调系统的空气机组控制的是回风温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实验数据的测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将压缩机设定为“制热”，温度设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℃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压缩机工作前的状态作为系统的原稳定状态。启动压缩机，系统进入过渡状态，同时开始计时，并测定回风温度。测得数据列写在数据表格中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0" y="0"/>
                <a:ext cx="1095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τ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0" y="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7"/>
              <p:cNvSpPr txBox="1"/>
              <p:nvPr/>
            </p:nvSpPr>
            <p:spPr>
              <a:xfrm>
                <a:off x="0" y="0"/>
                <a:ext cx="1095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τ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0" y="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38869" t="28795" r="27748" b="55071"/>
          <a:stretch/>
        </p:blipFill>
        <p:spPr>
          <a:xfrm>
            <a:off x="1050840" y="3645000"/>
            <a:ext cx="6400800" cy="224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rcRect l="2761" t="28648" r="61853" b="57494"/>
          <a:stretch/>
        </p:blipFill>
        <p:spPr>
          <a:xfrm>
            <a:off x="1042920" y="1476360"/>
            <a:ext cx="6408720" cy="1787400"/>
          </a:xfrm>
          <a:prstGeom prst="rect">
            <a:avLst/>
          </a:prstGeom>
          <a:ln w="0">
            <a:noFill/>
          </a:ln>
        </p:spPr>
      </p:pic>
      <p:sp>
        <p:nvSpPr>
          <p:cNvPr id="148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2"/>
          <p:cNvSpPr/>
          <p:nvPr/>
        </p:nvSpPr>
        <p:spPr>
          <a:xfrm>
            <a:off x="3816360" y="2708280"/>
            <a:ext cx="86364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上箭头 3"/>
          <p:cNvSpPr/>
          <p:nvPr/>
        </p:nvSpPr>
        <p:spPr>
          <a:xfrm>
            <a:off x="4116240" y="1795320"/>
            <a:ext cx="168480" cy="862200"/>
          </a:xfrm>
          <a:prstGeom prst="upArrow">
            <a:avLst>
              <a:gd name="adj1" fmla="val 50000"/>
              <a:gd name="adj2" fmla="val 49943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4"/>
          <p:cNvSpPr/>
          <p:nvPr/>
        </p:nvSpPr>
        <p:spPr>
          <a:xfrm>
            <a:off x="1619280" y="2708280"/>
            <a:ext cx="2197080" cy="2174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20"/>
          <p:cNvSpPr/>
          <p:nvPr/>
        </p:nvSpPr>
        <p:spPr>
          <a:xfrm>
            <a:off x="3851280" y="4626000"/>
            <a:ext cx="93672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上箭头 21"/>
          <p:cNvSpPr/>
          <p:nvPr/>
        </p:nvSpPr>
        <p:spPr>
          <a:xfrm>
            <a:off x="4152960" y="3933720"/>
            <a:ext cx="166680" cy="6415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左箭头 22"/>
          <p:cNvSpPr/>
          <p:nvPr/>
        </p:nvSpPr>
        <p:spPr>
          <a:xfrm>
            <a:off x="1619280" y="4653000"/>
            <a:ext cx="2232000" cy="21744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324000" y="1052640"/>
            <a:ext cx="86407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．响应曲线法进行数学建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知识要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响应曲线法主要用于测取阶跃响应曲线和矩形脉冲响应曲线。本次测取</a:t>
            </a: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阶跃响应曲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被控过程输入阶跃信号瞬时，其响应曲线斜率为零，之后逐渐增大，最后达到稳定曲线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形，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900000" y="4721400"/>
            <a:ext cx="2519640" cy="1481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rcRect l="2401" t="8776" r="5190" b="0"/>
          <a:stretch/>
        </p:blipFill>
        <p:spPr>
          <a:xfrm>
            <a:off x="4757760" y="4292640"/>
            <a:ext cx="3097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50920" y="1263600"/>
            <a:ext cx="874872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工程上可用下面的模型近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定参数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取阶跃响应曲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稳态值变化范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63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所对应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（单位：秒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再按右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78000" y="1916280"/>
                <a:ext cx="320976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τ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0" y="0"/>
                <a:ext cx="1095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τ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0" y="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3"/>
              <p:cNvSpPr txBox="1"/>
              <p:nvPr/>
            </p:nvSpPr>
            <p:spPr>
              <a:xfrm>
                <a:off x="5143680" y="1916280"/>
                <a:ext cx="3444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对象 1"/>
              <p:cNvSpPr txBox="1"/>
              <p:nvPr/>
            </p:nvSpPr>
            <p:spPr>
              <a:xfrm>
                <a:off x="4500720" y="3789360"/>
                <a:ext cx="456408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τ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14200" y="1071720"/>
            <a:ext cx="88218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取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给定实验数据表格，可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(0)=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20.2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℃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(∞)=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26.1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℃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[y(∞)-y(0)]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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取</a:t>
            </a:r>
            <a:r>
              <a:rPr b="0" lang="en-US" sz="2800" spc="-1" strike="noStrike">
                <a:solidFill>
                  <a:srgbClr val="ffff00"/>
                </a:solidFill>
                <a:latin typeface="宋体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zh-CN" sz="2800" spc="-1" strike="noStrike">
                <a:solidFill>
                  <a:srgbClr val="ffff00"/>
                </a:solidFill>
                <a:latin typeface="Symbol"/>
                <a:ea typeface="Symbol"/>
              </a:rPr>
              <a:t>（单位为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稳态值变化范围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[y(∞)-y(0)]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％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3%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对应值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[y(∞)-y(0)]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%;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[y(∞)-y(0)]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3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y(0);              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y(0)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查数据表格，找到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最接近的温度值所对应的时间点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c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如有多个时间点则取时间的中点或均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0" y="0"/>
                <a:ext cx="1095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τ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0" y="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实验步骤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1052640"/>
            <a:ext cx="8929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利用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Matlab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搭建仿真模型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机上，点击      ，运行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tlab6.5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，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tla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界面中点击      进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imulink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仿真界面，根据步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计算出的参数搭建一个空气机组的数学模型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）新建一个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untitled.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模型文件。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）拖曳所需仿真模块到该文件编辑窗口中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所需模块：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ource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选择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te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th operation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选择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u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；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ink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选择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cop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；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inou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选取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ansfer Fc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，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ansport Del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1193" t="36615" r="95400" b="59093"/>
          <a:stretch/>
        </p:blipFill>
        <p:spPr>
          <a:xfrm>
            <a:off x="3132000" y="1628640"/>
            <a:ext cx="503280" cy="507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rcRect l="26507" t="18573" r="71196" b="78980"/>
          <a:stretch/>
        </p:blipFill>
        <p:spPr>
          <a:xfrm>
            <a:off x="1978200" y="2133720"/>
            <a:ext cx="50616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3"/>
          <a:stretch/>
        </p:blipFill>
        <p:spPr>
          <a:xfrm>
            <a:off x="3395520" y="3013200"/>
            <a:ext cx="54723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dc:language>en-US</dc:language>
  <cp:lastModifiedBy>USER</cp:lastModifiedBy>
  <dcterms:modified xsi:type="dcterms:W3CDTF">2015-12-24T02:54:46Z</dcterms:modified>
  <cp:revision>139</cp:revision>
  <dc:subject/>
  <dc:title>油漆桶</dc:title>
</cp:coreProperties>
</file>