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3859-315C-4C54-877B-AA08A769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3718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9259-E26D-4B29-BCCA-9C57C6C5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580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FFE-53C6-4A61-B90D-4A8342FD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1200" y="1143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143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3718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1200" y="3718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3718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984F-3DBB-4395-A173-739552BF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45A1-B51C-4E70-AF19-16DF4249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F304-7090-454B-96B8-8B6FA0C0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E60B-D628-4D55-BFCA-CB2245C7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C0EF-34B9-4520-A5CF-AAF62A2A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5827-B24A-473C-96B0-8FB7DCC4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1443-4670-4A31-803E-2C757930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2876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49FA-7619-4B9C-86CA-56BE847C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3AFA-6F1D-4C94-96DF-C03D8968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580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D404-61C1-4F76-A1FC-1AA83A8B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760" y="3718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198C-D52E-43DC-9A9E-1517DD23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760" y="3718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3F4A-26D2-4B95-9653-1A8DAF05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2876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580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100D-1669-43CA-AA7C-5CBC8ABE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1200" y="1143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143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8760" y="3718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1200" y="3718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3718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D48B-1880-4CB9-B19C-8F0E3406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CCB1F-9448-4FD8-8F2E-38EE51F97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250AD-D5FE-450C-A476-F113D56B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62145-6EF6-4062-B391-FC6577A7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F4CB2-D94B-4791-9F50-58BAC813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3D8A5-E630-4C5B-BCEB-43F327D2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8B6E-ABD0-4A64-BFDB-870D5DC7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55B3D-1B92-4865-A50E-C65DB9EE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2876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29F39-DCE5-45BB-AAC8-D84E3663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4580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6D6F1-BD10-457C-A087-C08D7056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8760" y="3718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1B209-CF92-4A23-B8DB-79090208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8760" y="3718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B7F7C-43F8-4AE5-989A-C8402E4E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2876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4580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C480E-3F9B-4C1E-A897-1D02FF8C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1200" y="1143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3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28760" y="3718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1200" y="3718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718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9B117-9C0F-4336-919B-12C9C805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9E9D-F70B-4509-B4C6-33284B3A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5B64-124D-4243-A888-9BD32136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0E42-8B6D-4C57-8797-E78474D6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DAD-CA78-4087-8AD3-36B73CF3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580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974B-6FBA-49F4-9D4E-AECD6EE5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3718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6405-49C7-43B0-922C-9DFBB9F6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3CBD-1860-4844-9CCB-00A0BF0BEA4E}" type="datetime">
              <a:rPr b="0" lang="zh-CN" sz="1200" spc="-1" strike="noStrike">
                <a:solidFill>
                  <a:srgbClr val="ffffff"/>
                </a:solidFill>
                <a:latin typeface="华文细黑"/>
                <a:ea typeface="华文细黑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248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CC9F-CE27-4135-8B51-F2721FA5207D}" type="slidenum"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87DB-3C73-4B83-889F-19612F7EAD48}" type="datetime">
              <a:rPr b="0" lang="zh-CN" sz="1200" spc="-1" strike="noStrike">
                <a:solidFill>
                  <a:srgbClr val="ffffff"/>
                </a:solidFill>
                <a:latin typeface="华文细黑"/>
                <a:ea typeface="华文细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248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52B6-F454-4CF7-99E6-A50ECC2ACE5D}" type="slidenum"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3F2E-1B08-45AB-9520-76C8096FDD41}" type="datetime">
              <a:rPr b="0" lang="zh-CN" sz="1200" spc="-1" strike="noStrike">
                <a:solidFill>
                  <a:srgbClr val="ffffff"/>
                </a:solidFill>
                <a:latin typeface="华文细黑"/>
                <a:ea typeface="华文细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248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2811-9976-486B-A250-C73A761D1471}" type="slidenum"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6760" y="2492280"/>
            <a:ext cx="503388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力控组态软件的认识与应用</a:t>
            </a:r>
            <a:endParaRPr b="0" lang="en-US" sz="40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6"/>
          <p:cNvSpPr/>
          <p:nvPr/>
        </p:nvSpPr>
        <p:spPr>
          <a:xfrm>
            <a:off x="2075040" y="189000"/>
            <a:ext cx="46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实验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"/>
          <p:cNvSpPr/>
          <p:nvPr/>
        </p:nvSpPr>
        <p:spPr>
          <a:xfrm>
            <a:off x="250920" y="126828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编辑脚本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工程的逻辑控制过程要由脚本来完成，在力控的开发系统中，导航器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动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条件动作或应用程序动做中写入脚本程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运行与调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力控工程初步建立完成，进入运行阶段。先保存所有组态内容，关闭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BManager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在力控的开发系统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AW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中选择“文件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\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进入运行”菜单命令，进入力控的运行系统。若运行效果与实验要求不符，则进一步修改调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6"/>
          <p:cNvSpPr/>
          <p:nvPr/>
        </p:nvSpPr>
        <p:spPr>
          <a:xfrm>
            <a:off x="2075040" y="189000"/>
            <a:ext cx="46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实验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"/>
          <p:cNvSpPr/>
          <p:nvPr/>
        </p:nvSpPr>
        <p:spPr>
          <a:xfrm>
            <a:off x="250920" y="1268280"/>
            <a:ext cx="889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确定实验工程项目中的数据库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点表的内容及存储结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确定工程项目中设计的图形对象与变量之间的动作关系，记录动画连接设置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确定并记录调试正确的脚本程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95280" y="2492280"/>
          <a:ext cx="8424720" cy="10080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008360"/>
                <a:gridCol w="1223640"/>
                <a:gridCol w="1513080"/>
                <a:gridCol w="158256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点名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点描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点参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点类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取值范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寄存器类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寄存器地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6"/>
          <p:cNvSpPr/>
          <p:nvPr/>
        </p:nvSpPr>
        <p:spPr>
          <a:xfrm>
            <a:off x="2075040" y="189000"/>
            <a:ext cx="46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实验目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755640" y="191628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掌握力控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cecontrol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监控组态软件的基本使用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利用力控组态软件完成一个储油罐工艺流程仿真监控过程的设计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6"/>
          <p:cNvSpPr/>
          <p:nvPr/>
        </p:nvSpPr>
        <p:spPr>
          <a:xfrm>
            <a:off x="2075040" y="189000"/>
            <a:ext cx="46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实验知识要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250920" y="177336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监控组态软件是指一些数据采集与过程控制的专用软件，通过计算机信号对自动化设备或过程进行监视、控制和管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力控软件包括：工程管理器、人机界面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EW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实时数据库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驱动程序、控制策略生成器以及各种网络服务组件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细黑"/>
                <a:ea typeface="宋体"/>
              </a:rPr>
              <a:t>实验知识要点</a:t>
            </a:r>
            <a:endParaRPr b="0" lang="en-US" sz="40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2411280" y="1773360"/>
            <a:ext cx="4321440" cy="1098360"/>
          </a:xfrm>
          <a:prstGeom prst="roundRect">
            <a:avLst>
              <a:gd name="adj" fmla="val 5657"/>
            </a:avLst>
          </a:prstGeom>
          <a:gradFill rotWithShape="0">
            <a:gsLst>
              <a:gs pos="0">
                <a:srgbClr val="ffffff"/>
              </a:gs>
              <a:gs pos="100000">
                <a:srgbClr val="d2d2d2"/>
              </a:gs>
            </a:gsLst>
            <a:lin ang="18900000"/>
          </a:gradFill>
          <a:ln w="936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力控组态软件设计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971640" y="3392640"/>
            <a:ext cx="863640" cy="468000"/>
          </a:xfrm>
          <a:prstGeom prst="roundRect">
            <a:avLst>
              <a:gd name="adj" fmla="val 13125"/>
            </a:avLst>
          </a:prstGeom>
          <a:gradFill rotWithShape="0">
            <a:gsLst>
              <a:gs pos="0">
                <a:srgbClr val="ff388c"/>
              </a:gs>
              <a:gs pos="100000">
                <a:srgbClr val="e4005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华文细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1"/>
          <p:cNvSpPr/>
          <p:nvPr/>
        </p:nvSpPr>
        <p:spPr>
          <a:xfrm>
            <a:off x="971640" y="4221000"/>
            <a:ext cx="934920" cy="1872000"/>
          </a:xfrm>
          <a:custGeom>
            <a:avLst/>
            <a:gdLst>
              <a:gd name="textAreaLeft" fmla="*/ 15480 w 934920"/>
              <a:gd name="textAreaRight" fmla="*/ 919440 w 934920"/>
              <a:gd name="textAreaTop" fmla="*/ 15480 h 1872000"/>
              <a:gd name="textAreaBottom" fmla="*/ 1856520 h 1872000"/>
            </a:gdLst>
            <a:ahLst/>
            <a:rect l="textAreaLeft" t="textAreaTop" r="textAreaRight" b="textAreaBottom"/>
            <a:pathLst>
              <a:path w="21600" h="43242">
                <a:moveTo>
                  <a:pt x="1222" y="0"/>
                </a:moveTo>
                <a:arcTo wR="1222" hR="1222" stAng="16200000" swAng="-5400000"/>
                <a:lnTo>
                  <a:pt x="0" y="42020"/>
                </a:lnTo>
                <a:arcTo wR="1222" hR="1222" stAng="10800000" swAng="-5400000"/>
                <a:lnTo>
                  <a:pt x="20378" y="43242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2d2d2"/>
              </a:gs>
            </a:gsLst>
            <a:lin ang="18900000"/>
          </a:gradFill>
          <a:ln w="936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图形界面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2268360" y="3392640"/>
            <a:ext cx="863640" cy="468000"/>
          </a:xfrm>
          <a:prstGeom prst="roundRect">
            <a:avLst>
              <a:gd name="adj" fmla="val 13125"/>
            </a:avLst>
          </a:prstGeom>
          <a:gradFill rotWithShape="0">
            <a:gsLst>
              <a:gs pos="0">
                <a:srgbClr val="ff388c"/>
              </a:gs>
              <a:gs pos="100000">
                <a:srgbClr val="e4005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3348000" y="4221000"/>
            <a:ext cx="936720" cy="1909800"/>
          </a:xfrm>
          <a:custGeom>
            <a:avLst/>
            <a:gdLst>
              <a:gd name="textAreaLeft" fmla="*/ 15480 w 936720"/>
              <a:gd name="textAreaRight" fmla="*/ 921240 w 936720"/>
              <a:gd name="textAreaTop" fmla="*/ 15480 h 1909800"/>
              <a:gd name="textAreaBottom" fmla="*/ 1894320 h 1909800"/>
            </a:gdLst>
            <a:ahLst/>
            <a:rect l="textAreaLeft" t="textAreaTop" r="textAreaRight" b="textAreaBottom"/>
            <a:pathLst>
              <a:path w="21600" h="44030">
                <a:moveTo>
                  <a:pt x="1222" y="0"/>
                </a:moveTo>
                <a:arcTo wR="1222" hR="1222" stAng="16200000" swAng="-5400000"/>
                <a:lnTo>
                  <a:pt x="0" y="42808"/>
                </a:lnTo>
                <a:arcTo wR="1222" hR="1222" stAng="10800000" swAng="-5400000"/>
                <a:lnTo>
                  <a:pt x="20378" y="440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2d2d2"/>
              </a:gs>
            </a:gsLst>
            <a:lin ang="18900000"/>
          </a:gradFill>
          <a:ln w="936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创建实时数据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9"/>
          <p:cNvSpPr/>
          <p:nvPr/>
        </p:nvSpPr>
        <p:spPr>
          <a:xfrm>
            <a:off x="4716360" y="3392640"/>
            <a:ext cx="863640" cy="468000"/>
          </a:xfrm>
          <a:prstGeom prst="roundRect">
            <a:avLst>
              <a:gd name="adj" fmla="val 13125"/>
            </a:avLst>
          </a:prstGeom>
          <a:gradFill rotWithShape="0">
            <a:gsLst>
              <a:gs pos="0">
                <a:srgbClr val="ff388c"/>
              </a:gs>
              <a:gs pos="100000">
                <a:srgbClr val="e4005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华文细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4716360" y="4221000"/>
            <a:ext cx="935280" cy="1944720"/>
          </a:xfrm>
          <a:custGeom>
            <a:avLst/>
            <a:gdLst>
              <a:gd name="textAreaLeft" fmla="*/ 15480 w 935280"/>
              <a:gd name="textAreaRight" fmla="*/ 919800 w 935280"/>
              <a:gd name="textAreaTop" fmla="*/ 15480 h 1944720"/>
              <a:gd name="textAreaBottom" fmla="*/ 1929240 h 1944720"/>
            </a:gdLst>
            <a:ahLst/>
            <a:rect l="textAreaLeft" t="textAreaTop" r="textAreaRight" b="textAreaBottom"/>
            <a:pathLst>
              <a:path w="21600" h="44904">
                <a:moveTo>
                  <a:pt x="1222" y="0"/>
                </a:moveTo>
                <a:arcTo wR="1222" hR="1222" stAng="16200000" swAng="-5400000"/>
                <a:lnTo>
                  <a:pt x="0" y="43682"/>
                </a:lnTo>
                <a:arcTo wR="1222" hR="1222" stAng="10800000" swAng="-5400000"/>
                <a:lnTo>
                  <a:pt x="20378" y="44904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2d2d2"/>
              </a:gs>
            </a:gsLst>
            <a:lin ang="18900000"/>
          </a:gradFill>
          <a:ln w="936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建立动画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6012000" y="3392640"/>
            <a:ext cx="865080" cy="468000"/>
          </a:xfrm>
          <a:prstGeom prst="roundRect">
            <a:avLst>
              <a:gd name="adj" fmla="val 13125"/>
            </a:avLst>
          </a:prstGeom>
          <a:gradFill rotWithShape="0">
            <a:gsLst>
              <a:gs pos="0">
                <a:srgbClr val="ff388c"/>
              </a:gs>
              <a:gs pos="100000">
                <a:srgbClr val="e4005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华文细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7164360" y="4255920"/>
            <a:ext cx="865080" cy="1909800"/>
          </a:xfrm>
          <a:custGeom>
            <a:avLst/>
            <a:gdLst>
              <a:gd name="textAreaLeft" fmla="*/ 14040 w 865080"/>
              <a:gd name="textAreaRight" fmla="*/ 851040 w 865080"/>
              <a:gd name="textAreaTop" fmla="*/ 14040 h 1909800"/>
              <a:gd name="textAreaBottom" fmla="*/ 1895760 h 1909800"/>
            </a:gdLst>
            <a:ahLst/>
            <a:rect l="textAreaLeft" t="textAreaTop" r="textAreaRight" b="textAreaBottom"/>
            <a:pathLst>
              <a:path w="21600" h="47675">
                <a:moveTo>
                  <a:pt x="1222" y="0"/>
                </a:moveTo>
                <a:arcTo wR="1222" hR="1222" stAng="16200000" swAng="-5400000"/>
                <a:lnTo>
                  <a:pt x="0" y="46453"/>
                </a:lnTo>
                <a:arcTo wR="1222" hR="1222" stAng="10800000" swAng="-5400000"/>
                <a:lnTo>
                  <a:pt x="20378" y="47675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2d2d2"/>
              </a:gs>
            </a:gsLst>
            <a:lin ang="18900000"/>
          </a:gradFill>
          <a:ln w="936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运行和调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16"/>
          <p:cNvCxnSpPr/>
          <p:nvPr/>
        </p:nvCxnSpPr>
        <p:spPr>
          <a:xfrm flipV="1">
            <a:off x="1402920" y="3068280"/>
            <a:ext cx="1080" cy="324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9" name="AutoShape 17"/>
          <p:cNvCxnSpPr/>
          <p:nvPr/>
        </p:nvCxnSpPr>
        <p:spPr>
          <a:xfrm>
            <a:off x="1402920" y="3068280"/>
            <a:ext cx="61938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0" name="AutoShape 18"/>
          <p:cNvCxnSpPr/>
          <p:nvPr/>
        </p:nvCxnSpPr>
        <p:spPr>
          <a:xfrm>
            <a:off x="7596360" y="3068640"/>
            <a:ext cx="2160" cy="324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1" name="AutoShape 18"/>
          <p:cNvCxnSpPr/>
          <p:nvPr/>
        </p:nvCxnSpPr>
        <p:spPr>
          <a:xfrm flipH="1">
            <a:off x="5147640" y="2852640"/>
            <a:ext cx="1080" cy="5119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2" name="AutoShape 18"/>
          <p:cNvCxnSpPr/>
          <p:nvPr/>
        </p:nvCxnSpPr>
        <p:spPr>
          <a:xfrm flipH="1">
            <a:off x="3850560" y="2887560"/>
            <a:ext cx="1080" cy="5119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43" name="AutoShape 9"/>
          <p:cNvSpPr/>
          <p:nvPr/>
        </p:nvSpPr>
        <p:spPr>
          <a:xfrm>
            <a:off x="3419640" y="3392640"/>
            <a:ext cx="865080" cy="468000"/>
          </a:xfrm>
          <a:prstGeom prst="roundRect">
            <a:avLst>
              <a:gd name="adj" fmla="val 13125"/>
            </a:avLst>
          </a:prstGeom>
          <a:gradFill rotWithShape="0">
            <a:gsLst>
              <a:gs pos="0">
                <a:srgbClr val="ff388c"/>
              </a:gs>
              <a:gs pos="100000">
                <a:srgbClr val="e4005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华文细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7164360" y="3392640"/>
            <a:ext cx="863640" cy="468000"/>
          </a:xfrm>
          <a:prstGeom prst="roundRect">
            <a:avLst>
              <a:gd name="adj" fmla="val 13125"/>
            </a:avLst>
          </a:prstGeom>
          <a:gradFill rotWithShape="0">
            <a:gsLst>
              <a:gs pos="0">
                <a:srgbClr val="ff388c"/>
              </a:gs>
              <a:gs pos="100000">
                <a:srgbClr val="e4005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华文细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AutoShape 18"/>
          <p:cNvCxnSpPr/>
          <p:nvPr/>
        </p:nvCxnSpPr>
        <p:spPr>
          <a:xfrm flipH="1">
            <a:off x="6442920" y="2852640"/>
            <a:ext cx="1080" cy="5119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6" name="AutoShape 18"/>
          <p:cNvCxnSpPr/>
          <p:nvPr/>
        </p:nvCxnSpPr>
        <p:spPr>
          <a:xfrm flipH="1">
            <a:off x="2699640" y="2852640"/>
            <a:ext cx="1080" cy="5119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47" name="AutoShape 11"/>
          <p:cNvSpPr/>
          <p:nvPr/>
        </p:nvSpPr>
        <p:spPr>
          <a:xfrm>
            <a:off x="2195640" y="4221000"/>
            <a:ext cx="934920" cy="1872000"/>
          </a:xfrm>
          <a:custGeom>
            <a:avLst/>
            <a:gdLst>
              <a:gd name="textAreaLeft" fmla="*/ 15480 w 934920"/>
              <a:gd name="textAreaRight" fmla="*/ 919440 w 934920"/>
              <a:gd name="textAreaTop" fmla="*/ 15480 h 1872000"/>
              <a:gd name="textAreaBottom" fmla="*/ 1856520 h 1872000"/>
            </a:gdLst>
            <a:ahLst/>
            <a:rect l="textAreaLeft" t="textAreaTop" r="textAreaRight" b="textAreaBottom"/>
            <a:pathLst>
              <a:path w="21600" h="43242">
                <a:moveTo>
                  <a:pt x="1222" y="0"/>
                </a:moveTo>
                <a:arcTo wR="1222" hR="1222" stAng="16200000" swAng="-5400000"/>
                <a:lnTo>
                  <a:pt x="0" y="42020"/>
                </a:lnTo>
                <a:arcTo wR="1222" hR="1222" stAng="10800000" swAng="-5400000"/>
                <a:lnTo>
                  <a:pt x="20378" y="43242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2d2d2"/>
              </a:gs>
            </a:gsLst>
            <a:lin ang="18900000"/>
          </a:gradFill>
          <a:ln w="936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定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I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设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6012000" y="4221000"/>
            <a:ext cx="934920" cy="1944720"/>
          </a:xfrm>
          <a:custGeom>
            <a:avLst/>
            <a:gdLst>
              <a:gd name="textAreaLeft" fmla="*/ 15480 w 934920"/>
              <a:gd name="textAreaRight" fmla="*/ 919440 w 934920"/>
              <a:gd name="textAreaTop" fmla="*/ 15480 h 1944720"/>
              <a:gd name="textAreaBottom" fmla="*/ 1929240 h 1944720"/>
            </a:gdLst>
            <a:ahLst/>
            <a:rect l="textAreaLeft" t="textAreaTop" r="textAreaRight" b="textAreaBottom"/>
            <a:pathLst>
              <a:path w="21600" h="44921">
                <a:moveTo>
                  <a:pt x="1222" y="0"/>
                </a:moveTo>
                <a:arcTo wR="1222" hR="1222" stAng="16200000" swAng="-5400000"/>
                <a:lnTo>
                  <a:pt x="0" y="43699"/>
                </a:lnTo>
                <a:arcTo wR="1222" hR="1222" stAng="10800000" swAng="-5400000"/>
                <a:lnTo>
                  <a:pt x="20378" y="44921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2d2d2"/>
              </a:gs>
            </a:gsLst>
            <a:lin ang="18900000"/>
          </a:gradFill>
          <a:ln w="9360">
            <a:solidFill>
              <a:srgbClr val="d2d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编辑脚本动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6"/>
          <p:cNvSpPr/>
          <p:nvPr/>
        </p:nvSpPr>
        <p:spPr>
          <a:xfrm>
            <a:off x="2075040" y="189000"/>
            <a:ext cx="46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实验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"/>
          <p:cNvSpPr/>
          <p:nvPr/>
        </p:nvSpPr>
        <p:spPr>
          <a:xfrm>
            <a:off x="428760" y="128592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．图形界面设计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创建一幅工艺流程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一个油罐；油罐液位随储油量变化 ，油罐满液位为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两个阀门：一个进油控制阀门和出油控制阀门；阀门根据开关状态而变色，开时为绿色，关时为红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一个报警灯；报警时为红色，不报警时为暗红色或绿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两个按钮：分别实现系统的启动和停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6"/>
          <p:cNvSpPr/>
          <p:nvPr/>
        </p:nvSpPr>
        <p:spPr>
          <a:xfrm>
            <a:off x="2075040" y="189000"/>
            <a:ext cx="46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实验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"/>
          <p:cNvSpPr/>
          <p:nvPr/>
        </p:nvSpPr>
        <p:spPr>
          <a:xfrm>
            <a:off x="285840" y="1143000"/>
            <a:ext cx="87152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．动画动作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启动：在“启动”按钮上点击左键，系统开始运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油罐液位低于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时，进油阀门打开，出油阀关闭，油罐进入进油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油罐液位达到或高于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时，油罐即将注满，进油阀门关闭，出油阀门打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油罐液位超过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时，报警灯提示报警，否则不报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如此反复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停止：在“停止”按钮上点击左键，系统停止运行，进油、出油阀门关闭，报警灯停止报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6"/>
          <p:cNvSpPr/>
          <p:nvPr/>
        </p:nvSpPr>
        <p:spPr>
          <a:xfrm>
            <a:off x="2075040" y="189000"/>
            <a:ext cx="46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实验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357120" y="1341360"/>
            <a:ext cx="846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图形界面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工程管理器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新建工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进入开发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绘制监控界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定义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本次实验采用力控自带的仪表仿真驱动做为硬件设备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6"/>
          <p:cNvSpPr/>
          <p:nvPr/>
        </p:nvSpPr>
        <p:spPr>
          <a:xfrm>
            <a:off x="2075040" y="189000"/>
            <a:ext cx="46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实验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"/>
          <p:cNvSpPr/>
          <p:nvPr/>
        </p:nvSpPr>
        <p:spPr>
          <a:xfrm>
            <a:off x="250920" y="1268280"/>
            <a:ext cx="889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创建实时数据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数据库中，我们操纵的对象是点 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G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。 标准点类型有：模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点、数字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点、累计点、控制点、运算点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每个点都包含若干参数。引用点与参数的形式为“点名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参数名” 。如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G1.DESC”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点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G1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点描述，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G1.PV”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点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G1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过程值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6"/>
          <p:cNvSpPr/>
          <p:nvPr/>
        </p:nvSpPr>
        <p:spPr>
          <a:xfrm>
            <a:off x="2075040" y="189000"/>
            <a:ext cx="46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实验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"/>
          <p:cNvSpPr/>
          <p:nvPr/>
        </p:nvSpPr>
        <p:spPr>
          <a:xfrm>
            <a:off x="250920" y="126828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建立动画连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动画连接是将画面中的图形对象与变量之间建立某种关系。当变量的值发生变化时，在画面上图形对象的动画效果动态变化方式体现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动画连接使对象按照变量的值改变其大小、颜色、位置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xym148</dc:creator>
  <dc:description/>
  <dc:language>en-US</dc:language>
  <cp:lastModifiedBy>USER</cp:lastModifiedBy>
  <dcterms:modified xsi:type="dcterms:W3CDTF">2015-12-24T02:55:24Z</dcterms:modified>
  <cp:revision>136</cp:revision>
  <dc:subject/>
  <dc:title>油漆桶</dc:title>
</cp:coreProperties>
</file>