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3F0B-00F1-4D41-A040-E38F9A90B7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BB7B-B310-4695-8355-2150798FAA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236A-E399-4F9B-999B-78DC46E1AE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CF84-E497-466D-8920-11137A49D7B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207-E544-42B7-A528-568AF768AD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97D-0C82-434D-BC6B-9FF3CE692E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B75-7F49-434E-8420-7A7C838E8E6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996-0877-4698-BA96-954ADC054CA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EF0A-0348-44FF-A5AC-28FF0BFB40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C280-7E49-4DEA-9E81-3EA800313A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26C-B435-4816-AE71-B6FC22A6CA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DD75-C6BA-42D7-BD45-85478E0D61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5DB-A685-4EE2-86DA-FD81F6C6DA5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942-CEAE-48E1-832F-E0BACED039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8BC-3796-439C-A675-CAEBDD5B02A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4FFC-F6FB-40C0-A1DF-7F56EA37DE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2614-9D3E-4551-9EBE-0401552376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867B-5019-44CA-9B90-208A18C94EE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802-23DA-4BDC-81E7-F4E40F078B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39A-909F-47F1-9D1D-62093DF1F6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AB33-8E36-4DF0-A782-3C4FEA0750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0F19-8B84-445D-8840-C8237C8BD1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D17E-99A1-4A4C-B25C-8238296E28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3785-C3A9-44B6-A3BE-8BF11B63D5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2CF-51DC-4D69-91A3-68A122E930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55E-5B8E-4DC2-B696-4854BBF8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E0E-BE36-4643-889C-894E66E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409-3C2A-4940-A5CD-0436FBD1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695-0850-4BDE-ABC4-7953ED6E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0DC-28DA-40F7-A321-F43DC90E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3C60-CF99-4A2B-B73F-F12D916E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531-FB91-4A6C-ADD2-47D3C33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D59-45E5-4737-B8B4-5B7FD8D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0A5-1117-4E6D-B88D-9FFFFCB7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8AE-9B83-41B9-A096-5F9C45ED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DC3-254B-4EFF-82BD-D1F77ED6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1B6-F3CA-44F4-A356-F936A96B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D105-6C99-4C92-AFDF-3457897E4B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alibri"/>
              </a:rPr>
              <a:t>对等网与局域网组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掌握双机互联的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掌握使用交换机进行对等网连接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掌握局域网中客户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CP/IP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协议的配          置与网络资源共享的方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学习局域网中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设置和使用方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800080"/>
                </a:solidFill>
                <a:latin typeface="Calibri"/>
              </a:rPr>
              <a:t>实验设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机、交换机、网线若干、线缆测试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简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微软公司开发的网络会议软件 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拥有很强大的功能，它可以说是最早实现网络视频交流、会议的即时通讯软件之一 ，你可以利用它很自如地在网上做很多事情：和其他人信息交流；和其他人一起操作彼此屏幕上的电子白板；彼此传送文件；和其他人协同完成演示文稿、表格统计；利用麦克风主持音频会议；利用摄像机和视频捕捉卡主持视频会议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Netmeeting</a:t>
            </a: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的安装和配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Netmeeting</a:t>
            </a: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的使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共享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信息交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电子白板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f497d"/>
                </a:solidFill>
                <a:latin typeface="Calibri"/>
              </a:rPr>
              <a:t>传送文件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安装和配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7766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503280" y="1771560"/>
            <a:ext cx="8029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点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→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执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宋体"/>
              </a:rPr>
              <a:t>CONF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并按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</a:t>
            </a:r>
            <a:r>
              <a:rPr b="1" lang="zh-TW" sz="2400" spc="-1" strike="noStrike">
                <a:solidFill>
                  <a:srgbClr val="000000"/>
                </a:solidFill>
                <a:latin typeface="宋体"/>
              </a:rPr>
              <a:t>定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6"/>
          <p:cNvGrpSpPr/>
          <p:nvPr/>
        </p:nvGrpSpPr>
        <p:grpSpPr>
          <a:xfrm>
            <a:off x="1547640" y="2637000"/>
            <a:ext cx="6264000" cy="3168000"/>
            <a:chOff x="1547640" y="2637000"/>
            <a:chExt cx="6264000" cy="3168000"/>
          </a:xfrm>
        </p:grpSpPr>
        <p:pic>
          <p:nvPicPr>
            <p:cNvPr id="72" name="Picture 7" descr=""/>
            <p:cNvPicPr/>
            <p:nvPr/>
          </p:nvPicPr>
          <p:blipFill>
            <a:blip r:embed="rId1"/>
            <a:stretch/>
          </p:blipFill>
          <p:spPr>
            <a:xfrm>
              <a:off x="1547640" y="2637000"/>
              <a:ext cx="6264000" cy="31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Oval 8"/>
            <p:cNvSpPr/>
            <p:nvPr/>
          </p:nvSpPr>
          <p:spPr>
            <a:xfrm>
              <a:off x="2409120" y="3875040"/>
              <a:ext cx="2883600" cy="891720"/>
            </a:xfrm>
            <a:prstGeom prst="ellipse">
              <a:avLst/>
            </a:prstGeom>
            <a:noFill/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9"/>
          <p:cNvSpPr/>
          <p:nvPr/>
        </p:nvSpPr>
        <p:spPr>
          <a:xfrm>
            <a:off x="125892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安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tMeetin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宋体"/>
              </a:rPr>
              <a:t>第一次启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新細明體"/>
              </a:rPr>
              <a:t>NetMeet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软件时，将会进行选项设定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7644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67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入自己的相关讯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4764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1"/>
          <p:cNvPicPr/>
          <p:nvPr/>
        </p:nvPicPr>
        <p:blipFill>
          <a:blip r:embed="rId1"/>
          <a:stretch/>
        </p:blipFill>
        <p:spPr>
          <a:xfrm>
            <a:off x="1403280" y="1484280"/>
            <a:ext cx="66261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24764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71680" y="285840"/>
            <a:ext cx="883728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册服务器，两个选项都不勾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http://iqc.net.ru/blog/attachments/month_0806/e200862015211.png"/>
          <p:cNvPicPr/>
          <p:nvPr/>
        </p:nvPicPr>
        <p:blipFill>
          <a:blip r:embed="rId1"/>
          <a:stretch/>
        </p:blipFill>
        <p:spPr>
          <a:xfrm>
            <a:off x="928800" y="1214280"/>
            <a:ext cx="75009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网络连接速度请选择“局域网络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4717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990720" y="1341360"/>
            <a:ext cx="7391160" cy="5145120"/>
            <a:chOff x="990720" y="1341360"/>
            <a:chExt cx="7391160" cy="5145120"/>
          </a:xfrm>
        </p:grpSpPr>
        <p:pic>
          <p:nvPicPr>
            <p:cNvPr id="87" name="Picture 7" descr=""/>
            <p:cNvPicPr/>
            <p:nvPr/>
          </p:nvPicPr>
          <p:blipFill>
            <a:blip r:embed="rId1"/>
            <a:stretch/>
          </p:blipFill>
          <p:spPr>
            <a:xfrm>
              <a:off x="990720" y="1341360"/>
              <a:ext cx="739116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Oval 8"/>
            <p:cNvSpPr/>
            <p:nvPr/>
          </p:nvSpPr>
          <p:spPr>
            <a:xfrm>
              <a:off x="3429000" y="3398760"/>
              <a:ext cx="1828800" cy="533160"/>
            </a:xfrm>
            <a:prstGeom prst="ellipse">
              <a:avLst/>
            </a:prstGeom>
            <a:noFill/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475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个人喜好</a:t>
            </a: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建议点选</a:t>
            </a: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467080" y="19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1319040" y="1484280"/>
            <a:ext cx="6782040" cy="4695840"/>
            <a:chOff x="1319040" y="1484280"/>
            <a:chExt cx="6782040" cy="4695840"/>
          </a:xfrm>
        </p:grpSpPr>
        <p:pic>
          <p:nvPicPr>
            <p:cNvPr id="92" name="Picture 7" descr=""/>
            <p:cNvPicPr/>
            <p:nvPr/>
          </p:nvPicPr>
          <p:blipFill>
            <a:blip r:embed="rId1"/>
            <a:stretch/>
          </p:blipFill>
          <p:spPr>
            <a:xfrm>
              <a:off x="1319040" y="1484280"/>
              <a:ext cx="6782040" cy="46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Oval 8"/>
            <p:cNvSpPr/>
            <p:nvPr/>
          </p:nvSpPr>
          <p:spPr>
            <a:xfrm>
              <a:off x="3452760" y="2550960"/>
              <a:ext cx="4114800" cy="1143000"/>
            </a:xfrm>
            <a:prstGeom prst="ellipse">
              <a:avLst/>
            </a:prstGeom>
            <a:noFill/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40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面进行耳机与麦克风的调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47644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471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4717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47644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539640" y="1197000"/>
            <a:ext cx="8077320" cy="5229360"/>
            <a:chOff x="539640" y="1197000"/>
            <a:chExt cx="8077320" cy="5229360"/>
          </a:xfrm>
        </p:grpSpPr>
        <p:pic>
          <p:nvPicPr>
            <p:cNvPr id="100" name="Picture 10" descr=""/>
            <p:cNvPicPr/>
            <p:nvPr/>
          </p:nvPicPr>
          <p:blipFill>
            <a:blip r:embed="rId1"/>
            <a:stretch/>
          </p:blipFill>
          <p:spPr>
            <a:xfrm>
              <a:off x="539640" y="1197000"/>
              <a:ext cx="3733920" cy="25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1" descr=""/>
            <p:cNvPicPr/>
            <p:nvPr/>
          </p:nvPicPr>
          <p:blipFill>
            <a:blip r:embed="rId2"/>
            <a:stretch/>
          </p:blipFill>
          <p:spPr>
            <a:xfrm>
              <a:off x="4654440" y="1197000"/>
              <a:ext cx="39625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2" descr=""/>
            <p:cNvPicPr/>
            <p:nvPr/>
          </p:nvPicPr>
          <p:blipFill>
            <a:blip r:embed="rId3"/>
            <a:stretch/>
          </p:blipFill>
          <p:spPr>
            <a:xfrm>
              <a:off x="558720" y="3863880"/>
              <a:ext cx="371484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13" descr=""/>
            <p:cNvPicPr/>
            <p:nvPr/>
          </p:nvPicPr>
          <p:blipFill>
            <a:blip r:embed="rId4"/>
            <a:stretch/>
          </p:blipFill>
          <p:spPr>
            <a:xfrm>
              <a:off x="4662360" y="3876840"/>
              <a:ext cx="3954600" cy="254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228240"/>
            <a:ext cx="4572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3.</a:t>
            </a: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实验内容及方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双机互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用直连线完成两台计算机的网络物理连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配置网络协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邻居”点右键→选择“属性” → “本地连接”上点右键→选择“属性”。在对话框中设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址、子网掩码、网关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右键点击“我的电脑” →属性，记录计算机名和工作组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tcpip"/>
          <p:cNvPicPr/>
          <p:nvPr/>
        </p:nvPicPr>
        <p:blipFill>
          <a:blip r:embed="rId1"/>
          <a:stretch/>
        </p:blipFill>
        <p:spPr>
          <a:xfrm>
            <a:off x="4573440" y="357120"/>
            <a:ext cx="4570560" cy="520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ipaddr"/>
          <p:cNvPicPr/>
          <p:nvPr/>
        </p:nvPicPr>
        <p:blipFill>
          <a:blip r:embed="rId2"/>
          <a:stretch/>
        </p:blipFill>
        <p:spPr>
          <a:xfrm>
            <a:off x="3359160" y="500040"/>
            <a:ext cx="57848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整完毕请按“完成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47176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1258920" y="1628640"/>
            <a:ext cx="6477120" cy="4627440"/>
            <a:chOff x="1258920" y="1628640"/>
            <a:chExt cx="6477120" cy="4627440"/>
          </a:xfrm>
        </p:grpSpPr>
        <p:pic>
          <p:nvPicPr>
            <p:cNvPr id="107" name="Picture 7" descr=""/>
            <p:cNvPicPr/>
            <p:nvPr/>
          </p:nvPicPr>
          <p:blipFill>
            <a:blip r:embed="rId1"/>
            <a:stretch/>
          </p:blipFill>
          <p:spPr>
            <a:xfrm>
              <a:off x="1258920" y="1628640"/>
              <a:ext cx="6477120" cy="44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8"/>
            <p:cNvSpPr/>
            <p:nvPr/>
          </p:nvSpPr>
          <p:spPr>
            <a:xfrm>
              <a:off x="4876920" y="5341680"/>
              <a:ext cx="1752480" cy="914400"/>
            </a:xfrm>
            <a:prstGeom prst="ellipse">
              <a:avLst/>
            </a:prstGeom>
            <a:noFill/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3286080" cy="45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的使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4786200" y="642960"/>
            <a:ext cx="2880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各项功能的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2665440" cy="4681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7"/>
          <p:cNvSpPr/>
          <p:nvPr/>
        </p:nvSpPr>
        <p:spPr>
          <a:xfrm>
            <a:off x="6588000" y="1370160"/>
            <a:ext cx="2376720" cy="546120"/>
          </a:xfrm>
          <a:prstGeom prst="borderCallout1">
            <a:avLst>
              <a:gd name="adj1" fmla="val 18750"/>
              <a:gd name="adj2" fmla="val -8333"/>
              <a:gd name="adj3" fmla="val 139245"/>
              <a:gd name="adj4" fmla="val -10801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呼叫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地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8"/>
          <p:cNvSpPr/>
          <p:nvPr/>
        </p:nvSpPr>
        <p:spPr>
          <a:xfrm>
            <a:off x="6588000" y="2133720"/>
            <a:ext cx="1871640" cy="574560"/>
          </a:xfrm>
          <a:prstGeom prst="borderCallout1">
            <a:avLst>
              <a:gd name="adj1" fmla="val 18750"/>
              <a:gd name="adj2" fmla="val -8333"/>
              <a:gd name="adj3" fmla="val 10495"/>
              <a:gd name="adj4" fmla="val -7031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进行呼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9"/>
          <p:cNvSpPr/>
          <p:nvPr/>
        </p:nvSpPr>
        <p:spPr>
          <a:xfrm>
            <a:off x="6588000" y="2924280"/>
            <a:ext cx="1871640" cy="576000"/>
          </a:xfrm>
          <a:prstGeom prst="borderCallout1">
            <a:avLst>
              <a:gd name="adj1" fmla="val 18750"/>
              <a:gd name="adj2" fmla="val -8333"/>
              <a:gd name="adj3" fmla="val -77134"/>
              <a:gd name="adj4" fmla="val -719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结束呼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0"/>
          <p:cNvSpPr/>
          <p:nvPr/>
        </p:nvSpPr>
        <p:spPr>
          <a:xfrm>
            <a:off x="214200" y="4214880"/>
            <a:ext cx="1835280" cy="647640"/>
          </a:xfrm>
          <a:prstGeom prst="borderCallout1">
            <a:avLst>
              <a:gd name="adj1" fmla="val 18750"/>
              <a:gd name="adj2" fmla="val -8333"/>
              <a:gd name="adj3" fmla="val 256129"/>
              <a:gd name="adj4" fmla="val 166435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共享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179280" y="2997360"/>
            <a:ext cx="1871640" cy="1074600"/>
          </a:xfrm>
          <a:prstGeom prst="borderCallout1">
            <a:avLst>
              <a:gd name="adj1" fmla="val 18750"/>
              <a:gd name="adj2" fmla="val -8333"/>
              <a:gd name="adj3" fmla="val 396078"/>
              <a:gd name="adj4" fmla="val 195759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交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（聊天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6588000" y="3789360"/>
            <a:ext cx="1871640" cy="576360"/>
          </a:xfrm>
          <a:prstGeom prst="borderCallout1">
            <a:avLst>
              <a:gd name="adj1" fmla="val 18750"/>
              <a:gd name="adj2" fmla="val -8333"/>
              <a:gd name="adj3" fmla="val 306888"/>
              <a:gd name="adj4" fmla="val -116541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电子白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3"/>
          <p:cNvSpPr/>
          <p:nvPr/>
        </p:nvSpPr>
        <p:spPr>
          <a:xfrm>
            <a:off x="6588000" y="4581360"/>
            <a:ext cx="1871640" cy="576360"/>
          </a:xfrm>
          <a:prstGeom prst="borderCallout1">
            <a:avLst>
              <a:gd name="adj1" fmla="val 18750"/>
              <a:gd name="adj2" fmla="val -8333"/>
              <a:gd name="adj3" fmla="val 189532"/>
              <a:gd name="adj4" fmla="val -72601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传送文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179280" y="1268280"/>
            <a:ext cx="1871640" cy="1482840"/>
          </a:xfrm>
          <a:prstGeom prst="borderCallout1">
            <a:avLst>
              <a:gd name="adj1" fmla="val 18750"/>
              <a:gd name="adj2" fmla="val -8333"/>
              <a:gd name="adj3" fmla="val 238222"/>
              <a:gd name="adj4" fmla="val 230958"/>
            </a:avLst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建立连接后显示双方的姓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70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输入对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IP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并进行呼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212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2590920" y="2209680"/>
            <a:ext cx="2438280" cy="38124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311720" y="4292640"/>
            <a:ext cx="1150920" cy="246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新細明體"/>
              </a:rPr>
              <a:t>222.186.105.2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Untitled-2 copy"/>
          <p:cNvPicPr/>
          <p:nvPr/>
        </p:nvPicPr>
        <p:blipFill>
          <a:blip r:embed="rId1"/>
          <a:stretch/>
        </p:blipFill>
        <p:spPr>
          <a:xfrm>
            <a:off x="1692360" y="1125360"/>
            <a:ext cx="5905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Untitled-1 copy"/>
          <p:cNvPicPr/>
          <p:nvPr/>
        </p:nvPicPr>
        <p:blipFill>
          <a:blip r:embed="rId1"/>
          <a:stretch/>
        </p:blipFill>
        <p:spPr>
          <a:xfrm>
            <a:off x="3059280" y="1557360"/>
            <a:ext cx="2855880" cy="4896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对方在线并打开了</a:t>
            </a: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NetMeet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连接成功后如下图所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395520" y="11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Untitled-3 copy"/>
          <p:cNvPicPr/>
          <p:nvPr/>
        </p:nvPicPr>
        <p:blipFill>
          <a:blip r:embed="rId1"/>
          <a:stretch/>
        </p:blipFill>
        <p:spPr>
          <a:xfrm>
            <a:off x="1500120" y="1357200"/>
            <a:ext cx="7416720" cy="5040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28520" y="189000"/>
            <a:ext cx="6643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可以将你的文档或桌面共享给对方以进行交流或远程协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00000" y="4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7"/>
          <p:cNvSpPr/>
          <p:nvPr/>
        </p:nvSpPr>
        <p:spPr>
          <a:xfrm>
            <a:off x="5580000" y="2111400"/>
            <a:ext cx="2286000" cy="38088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14200" y="1071720"/>
            <a:ext cx="11001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程序共享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556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享桌面如下图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995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3708360" y="4724280"/>
            <a:ext cx="1752480" cy="68580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1060560" y="1600200"/>
            <a:ext cx="6175440" cy="4648320"/>
            <a:chOff x="1060560" y="1600200"/>
            <a:chExt cx="6175440" cy="4648320"/>
          </a:xfrm>
        </p:grpSpPr>
        <p:pic>
          <p:nvPicPr>
            <p:cNvPr id="138" name="Picture 8" descr=""/>
            <p:cNvPicPr/>
            <p:nvPr/>
          </p:nvPicPr>
          <p:blipFill>
            <a:blip r:embed="rId1"/>
            <a:stretch/>
          </p:blipFill>
          <p:spPr>
            <a:xfrm>
              <a:off x="3632040" y="1600200"/>
              <a:ext cx="360396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AutoShape 9"/>
            <p:cNvSpPr/>
            <p:nvPr/>
          </p:nvSpPr>
          <p:spPr>
            <a:xfrm>
              <a:off x="1060560" y="2714760"/>
              <a:ext cx="2160360" cy="1577880"/>
            </a:xfrm>
            <a:prstGeom prst="borderCallout1">
              <a:avLst>
                <a:gd name="adj1" fmla="val 18750"/>
                <a:gd name="adj2" fmla="val -8333"/>
                <a:gd name="adj3" fmla="val 164407"/>
                <a:gd name="adj4" fmla="val 123291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即：对方可控制操作使用您的共享程序或桌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3348000" y="4797360"/>
              <a:ext cx="3505320" cy="533520"/>
            </a:xfrm>
            <a:prstGeom prst="ellipse">
              <a:avLst/>
            </a:prstGeom>
            <a:noFill/>
            <a:ln cap="sq"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1"/>
          <p:cNvPicPr/>
          <p:nvPr/>
        </p:nvPicPr>
        <p:blipFill>
          <a:blip r:embed="rId1"/>
          <a:stretch/>
        </p:blipFill>
        <p:spPr>
          <a:xfrm>
            <a:off x="744480" y="1052640"/>
            <a:ext cx="5483160" cy="5472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享桌面并允许控制的图示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0144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859280" y="3068640"/>
            <a:ext cx="936720" cy="360360"/>
          </a:xfrm>
          <a:prstGeom prst="ellipse">
            <a:avLst/>
          </a:prstGeom>
          <a:noFill/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6804000" y="3573360"/>
            <a:ext cx="1944720" cy="1927440"/>
          </a:xfrm>
          <a:prstGeom prst="borderCallout1">
            <a:avLst>
              <a:gd name="adj1" fmla="val 18750"/>
              <a:gd name="adj2" fmla="val -8333"/>
              <a:gd name="adj3" fmla="val -21324"/>
              <a:gd name="adj4" fmla="val -6685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双击，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这时鼠标图示如图所示，就可控制对方桌面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另一方共享桌面的图示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0144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Untitled-3 copy"/>
          <p:cNvPicPr/>
          <p:nvPr/>
        </p:nvPicPr>
        <p:blipFill>
          <a:blip r:embed="rId1"/>
          <a:stretch/>
        </p:blipFill>
        <p:spPr>
          <a:xfrm>
            <a:off x="826920" y="120348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49" name="Oval 7"/>
          <p:cNvSpPr/>
          <p:nvPr/>
        </p:nvSpPr>
        <p:spPr>
          <a:xfrm>
            <a:off x="5291280" y="1995480"/>
            <a:ext cx="2286000" cy="38088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Untitled-4 copy"/>
          <p:cNvPicPr/>
          <p:nvPr/>
        </p:nvPicPr>
        <p:blipFill>
          <a:blip r:embed="rId1"/>
          <a:stretch/>
        </p:blipFill>
        <p:spPr>
          <a:xfrm>
            <a:off x="2428920" y="1285920"/>
            <a:ext cx="6048360" cy="5273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47360" y="260280"/>
            <a:ext cx="7496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开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信息功能可以进行在线文字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93356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5724360" y="5805360"/>
            <a:ext cx="609840" cy="685800"/>
          </a:xfrm>
          <a:prstGeom prst="ellipse">
            <a:avLst/>
          </a:prstGeom>
          <a:noFill/>
          <a:ln cap="sq"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14200" y="1071720"/>
            <a:ext cx="1571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信息交流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3808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进行网络连通性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第一种方法：看本地连接的图标是否正常显示，若正常显示，则表示网络物理连接正常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第二种方法：在网上邻居上是否能看到其它的计算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第三种方法：“开始”→“程序”→“附件”→“命令提示符”或者“开始”→“运行”→键入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md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命令符，打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命令窗口，在命令窗口下执行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ng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地址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记录网络连通后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指令的运行结果。将网线断开再记录一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ing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指令的运行结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18900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启“电子白板”以进行在线教学和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0144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1743120" y="1428840"/>
            <a:ext cx="7115040" cy="4743360"/>
          </a:xfrm>
          <a:prstGeom prst="rect">
            <a:avLst/>
          </a:prstGeom>
          <a:ln w="0">
            <a:noFill/>
          </a:ln>
        </p:spPr>
      </p:pic>
      <p:sp>
        <p:nvSpPr>
          <p:cNvPr id="158" name="Oval 7"/>
          <p:cNvSpPr/>
          <p:nvPr/>
        </p:nvSpPr>
        <p:spPr>
          <a:xfrm>
            <a:off x="7164360" y="5445000"/>
            <a:ext cx="380880" cy="60984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5364000" y="4508640"/>
            <a:ext cx="180036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85840" y="1643040"/>
            <a:ext cx="124308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电子白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未命名"/>
          <p:cNvPicPr/>
          <p:nvPr/>
        </p:nvPicPr>
        <p:blipFill>
          <a:blip r:embed="rId1"/>
          <a:stretch/>
        </p:blipFill>
        <p:spPr>
          <a:xfrm>
            <a:off x="374760" y="714240"/>
            <a:ext cx="8769240" cy="70009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8028000" y="486900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212759"/>
              <a:gd name="adj4" fmla="val -314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传送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335240" y="2522520"/>
            <a:ext cx="1941480" cy="609480"/>
          </a:xfrm>
          <a:prstGeom prst="borderCallout1">
            <a:avLst>
              <a:gd name="adj1" fmla="val 18750"/>
              <a:gd name="adj2" fmla="val -8333"/>
              <a:gd name="adj3" fmla="val -134898"/>
              <a:gd name="adj4" fmla="val -3352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击此处添加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3635280" y="2532240"/>
            <a:ext cx="1368360" cy="609480"/>
          </a:xfrm>
          <a:prstGeom prst="borderCallout1">
            <a:avLst>
              <a:gd name="adj1" fmla="val 18750"/>
              <a:gd name="adj2" fmla="val -8333"/>
              <a:gd name="adj3" fmla="val -141148"/>
              <a:gd name="adj4" fmla="val -2169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选择接收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00040" y="0"/>
            <a:ext cx="8143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文件传输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2"/>
          <p:cNvPicPr/>
          <p:nvPr/>
        </p:nvPicPr>
        <p:blipFill>
          <a:blip r:embed="rId1"/>
          <a:stretch/>
        </p:blipFill>
        <p:spPr>
          <a:xfrm>
            <a:off x="2700360" y="1052640"/>
            <a:ext cx="2814480" cy="5472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09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束呼叫的图示如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0144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4643280" y="2131920"/>
            <a:ext cx="936720" cy="360360"/>
          </a:xfrm>
          <a:prstGeom prst="ellipse">
            <a:avLst/>
          </a:prstGeom>
          <a:noFill/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940360" y="2851200"/>
            <a:ext cx="1944720" cy="1292040"/>
          </a:xfrm>
          <a:prstGeom prst="borderCallout1">
            <a:avLst>
              <a:gd name="adj1" fmla="val 18750"/>
              <a:gd name="adj2" fmla="val -8333"/>
              <a:gd name="adj3" fmla="val -40185"/>
              <a:gd name="adj4" fmla="val -3355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结束呼叫，可再邀请其他人参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04920" y="4572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多机互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完成网络物理连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配置网络协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利用交换机自行完成多机互联，测试网络连通性。在命令窗口下执行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config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命令，以显示本机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设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记录此时网络中的计算机名称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地址、工作组名称和网络拓扑结构图。具体步骤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中的具体步骤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、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280" y="4572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安装方法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从“开始”→“运行”输入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f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可以启动。第一次运行后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桌面留一个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图标，以后双击图标就启动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设置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一次运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当窗口上提示“当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启动时登录到目录服务器”时，请把“服务器名”由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icrosoft Interne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目录”改为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ls.299.net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启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tmeetin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右上方有竖排的三个按纽，第三个是一个小书本按钮，点击一下，就会出现一个标题为“找到某人”的窗口，显示一个人员列表（这个列表称为“目录”），这些都是和你一样在线的人，你可以双击一个人发起呼叫（注意：邮件地址上有一个小太阳，说明该人已在通话中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4572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建立共享文件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运行网络安装向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设置文件夹的共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在任一分区下新建一文件夹→单击鼠标右键→“属性”→“共享”→选共享该文件夹→为该共享文件夹命共享名→设置权限→确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Calibri"/>
              </a:rPr>
              <a:t>任务：每台计算机各自设置本机的共享文件夹，本大组内所有计算机相互读写共享文件夹，并对应本组内计算机名记录本组内所有共享文件夹的名称和路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hare"/>
          <p:cNvPicPr/>
          <p:nvPr/>
        </p:nvPicPr>
        <p:blipFill>
          <a:blip r:embed="rId1"/>
          <a:stretch/>
        </p:blipFill>
        <p:spPr>
          <a:xfrm>
            <a:off x="1981080" y="1600200"/>
            <a:ext cx="452592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226680" y="6858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Calibri"/>
              </a:rPr>
              <a:t>共享文件夹设置界面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Calibri"/>
              </a:rPr>
              <a:t>实验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双机互联：记录两台电脑的计算机名、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P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地址，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ing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语句运行的结果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机互联：记录本工作组所有电脑的计算机名、共享文件夹名、工作组名，画出当前网络的网络拓扑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est timed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tination host unreach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y from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5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新細明體"/>
              </a:rPr>
              <a:t>Windows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2000</a:t>
            </a: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、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新細明體"/>
              </a:rPr>
              <a:t>XP </a:t>
            </a:r>
            <a:r>
              <a:rPr b="1" lang="zh-TW" sz="3600" spc="-1" strike="noStrike">
                <a:solidFill>
                  <a:srgbClr val="1f497d"/>
                </a:solidFill>
                <a:latin typeface="Calibri"/>
                <a:ea typeface="新細明體"/>
              </a:rPr>
              <a:t>下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  <a:ea typeface="新細明體"/>
              </a:rPr>
              <a:t>NetMeeting</a:t>
            </a:r>
            <a:r>
              <a:rPr b="1" lang="zh-TW" sz="3600" spc="-1" strike="noStrike">
                <a:solidFill>
                  <a:srgbClr val="1f497d"/>
                </a:solidFill>
                <a:latin typeface="Calibri"/>
                <a:ea typeface="新細明體"/>
              </a:rPr>
              <a:t>的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277668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5724360" y="4149720"/>
            <a:ext cx="290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01:00:33Z</dcterms:created>
  <dc:creator>USER</dc:creator>
  <dc:description/>
  <dc:language>en-US</dc:language>
  <cp:lastModifiedBy>USER</cp:lastModifiedBy>
  <dcterms:modified xsi:type="dcterms:W3CDTF">2015-12-24T03:00:19Z</dcterms:modified>
  <cp:revision>25</cp:revision>
  <dc:subject/>
  <dc:title>    </dc:title>
</cp:coreProperties>
</file>