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7816-8538-478F-9736-502EA46E6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5D30-6497-49ED-BFF5-A9472F10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8766-566E-45C6-BCA0-3178676DC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E473-D0A5-41B2-8B26-D2645BB51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B707-AAA0-478D-9E55-34E67939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FE20-0BC7-47F7-B9EF-BB8847EF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A4A3-539A-468A-9A3B-1414C19A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6D5C-B75F-4590-8F95-19DCA3F2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9BF5-22C1-4DC2-8ACC-E2FD840E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3AC7-DD54-43B4-BF1C-62059026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FB47-8B7E-4A1A-8967-6C91179D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E9B8-7EC4-429A-AA7D-0CBDEAF5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0C8D-E8D5-400F-AED1-1B93C0921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e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站点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FT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服务器的创建与管理实验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09480" y="1981080"/>
            <a:ext cx="83059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a800"/>
                </a:solidFill>
                <a:latin typeface="Times New Roman"/>
                <a:ea typeface="宋体"/>
              </a:rPr>
              <a:t>1.</a:t>
            </a:r>
            <a:r>
              <a:rPr b="1" lang="zh-CN" sz="3200" spc="-1" strike="noStrike">
                <a:solidFill>
                  <a:srgbClr val="00a800"/>
                </a:solidFill>
                <a:latin typeface="Times New Roman"/>
                <a:ea typeface="宋体"/>
              </a:rPr>
              <a:t>实验目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掌握设置、发布及访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e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站点的操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掌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indows II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FT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服务器的安装与配置方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800"/>
                </a:solidFill>
                <a:latin typeface="Times New Roman"/>
                <a:ea typeface="宋体"/>
              </a:rPr>
              <a:t>2.</a:t>
            </a:r>
            <a:r>
              <a:rPr b="1" lang="zh-CN" sz="3200" spc="-1" strike="noStrike">
                <a:solidFill>
                  <a:srgbClr val="00a800"/>
                </a:solidFill>
                <a:latin typeface="Times New Roman"/>
                <a:ea typeface="宋体"/>
              </a:rPr>
              <a:t>实验设备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计算机、网线、交换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533160" y="304560"/>
            <a:ext cx="838188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800"/>
                </a:solidFill>
                <a:latin typeface="Times New Roman"/>
                <a:ea typeface="宋体"/>
              </a:rPr>
              <a:t>3</a:t>
            </a:r>
            <a:r>
              <a:rPr b="1" lang="en-US" sz="3600" spc="-1" strike="noStrike">
                <a:solidFill>
                  <a:srgbClr val="00b050"/>
                </a:solidFill>
                <a:latin typeface="Times New Roman"/>
                <a:ea typeface="宋体"/>
              </a:rPr>
              <a:t> .</a:t>
            </a:r>
            <a:r>
              <a:rPr b="1" lang="zh-CN" sz="3600" spc="-1" strike="noStrike">
                <a:solidFill>
                  <a:srgbClr val="00a800"/>
                </a:solidFill>
                <a:latin typeface="Times New Roman"/>
                <a:ea typeface="宋体"/>
              </a:rPr>
              <a:t>实验内容、步骤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e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网页的发布和访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打开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terne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信息服务”窗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依次单击“开始”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控制面板”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管理工具”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terne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信息服务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管理器”。鼠标左键单击打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服务器所在计算机的目录树，展开“网站”选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 “默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e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站点属性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“默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e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站点”项，单击鼠标右键，从快捷菜单中选择“属性”项，打开“默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e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站点属性”对话框，本次主要设置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e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站点”、“主目录”和“文档”选项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04920" y="38052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We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站点地址设置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未命名"/>
          <p:cNvPicPr/>
          <p:nvPr/>
        </p:nvPicPr>
        <p:blipFill>
          <a:blip r:embed="rId1"/>
          <a:stretch/>
        </p:blipFill>
        <p:spPr>
          <a:xfrm>
            <a:off x="3505320" y="1523880"/>
            <a:ext cx="5486400" cy="4092840"/>
          </a:xfrm>
          <a:prstGeom prst="rect">
            <a:avLst/>
          </a:prstGeom>
          <a:ln w="0">
            <a:noFill/>
          </a:ln>
        </p:spPr>
      </p:pic>
      <p:sp>
        <p:nvSpPr>
          <p:cNvPr id="46" name="矩形 3"/>
          <p:cNvSpPr/>
          <p:nvPr/>
        </p:nvSpPr>
        <p:spPr>
          <a:xfrm>
            <a:off x="533520" y="1093680"/>
            <a:ext cx="2971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站点”选项卡中的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址”下拉文本框中选择本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址，如选择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2.113.90.20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在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端口”文本框中维持原来的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04560" y="533520"/>
            <a:ext cx="55623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We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站点主目录设置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0" y="22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3"/>
          <p:cNvGraphicFramePr/>
          <p:nvPr/>
        </p:nvGraphicFramePr>
        <p:xfrm>
          <a:off x="3657600" y="1219320"/>
          <a:ext cx="507996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219320"/>
                    <a:ext cx="507996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矩形 4"/>
          <p:cNvSpPr/>
          <p:nvPr/>
        </p:nvSpPr>
        <p:spPr>
          <a:xfrm>
            <a:off x="380880" y="1371600"/>
            <a:ext cx="320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“主目录”选项卡中的“本地路径”文本框中通过“浏览”按钮来选择主页文件所在的目录，如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:\myweb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如图所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28600" y="22860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设置“文档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0" y="22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4"/>
          <p:cNvSpPr/>
          <p:nvPr/>
        </p:nvSpPr>
        <p:spPr>
          <a:xfrm>
            <a:off x="380880" y="685800"/>
            <a:ext cx="3886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“文档”选项卡中，必须选择“启用默认文档”项，可以再增加需要的默认文档名并可调整搜索顺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在浏览器中只输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址后，系统会自动在“主目录”中按由上到下次序寻找列表中指定的文件，如没有此列表中的任何一个文件名存在，则显示找不到文件的出错信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11-63"/>
          <p:cNvPicPr/>
          <p:nvPr/>
        </p:nvPicPr>
        <p:blipFill>
          <a:blip r:embed="rId1"/>
          <a:stretch/>
        </p:blipFill>
        <p:spPr>
          <a:xfrm>
            <a:off x="4303800" y="914400"/>
            <a:ext cx="4840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28240" y="45684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发布主页，并进行测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0" y="22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4"/>
          <p:cNvSpPr/>
          <p:nvPr/>
        </p:nvSpPr>
        <p:spPr>
          <a:xfrm>
            <a:off x="609480" y="100980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客户机上启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浏览器，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后的地址栏内，输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服务器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址，即可浏览到发布的主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内容占位符 2"/>
          <p:cNvSpPr/>
          <p:nvPr/>
        </p:nvSpPr>
        <p:spPr>
          <a:xfrm>
            <a:off x="228600" y="2362320"/>
            <a:ext cx="7620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利用虚拟目录，设置第二个网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8"/>
          <p:cNvSpPr/>
          <p:nvPr/>
        </p:nvSpPr>
        <p:spPr>
          <a:xfrm>
            <a:off x="609480" y="297180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依次单击“开始”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控制面板”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管理工具”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信息服务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管理器”。鼠标左键单击打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服务器所在计算机的目录树，展开“网站”选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右键点击“默认网站”，在弹出的快捷菜单中选择“新建”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虚拟目录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28240" y="3045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设置虚拟目录名和路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0" y="22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4"/>
          <p:cNvSpPr/>
          <p:nvPr/>
        </p:nvSpPr>
        <p:spPr>
          <a:xfrm>
            <a:off x="380880" y="86688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虚拟目录创建向导页，直接单击“下一步”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进入虚拟目录别名设置页输入虚拟目录名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网站内容目录页的“路径”栏输入第二个网页的目录路径，或通过“浏览”按钮设置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虚拟目录访问权限页，采用默认值，勾选“读取”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“下一步”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完成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内容占位符 2"/>
          <p:cNvSpPr/>
          <p:nvPr/>
        </p:nvSpPr>
        <p:spPr>
          <a:xfrm>
            <a:off x="304920" y="4343400"/>
            <a:ext cx="7619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设置虚拟目录的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8"/>
          <p:cNvSpPr/>
          <p:nvPr/>
        </p:nvSpPr>
        <p:spPr>
          <a:xfrm>
            <a:off x="380880" y="48769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右键点击新建的虚拟目录，选择“属性”。在 “文档”选项卡中设置默认文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28240" y="22824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发布第二个网页，并进行测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8640" indent="-188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0" y="22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4"/>
          <p:cNvSpPr/>
          <p:nvPr/>
        </p:nvSpPr>
        <p:spPr>
          <a:xfrm>
            <a:off x="380880" y="68580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客户机上启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浏览器，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后的地址栏内，输入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虚拟目录别名”，即可浏览到发布的第二个网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内容占位符 2"/>
          <p:cNvSpPr/>
          <p:nvPr/>
        </p:nvSpPr>
        <p:spPr>
          <a:xfrm>
            <a:off x="380880" y="1828800"/>
            <a:ext cx="7620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T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站点设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8"/>
          <p:cNvSpPr/>
          <p:nvPr/>
        </p:nvSpPr>
        <p:spPr>
          <a:xfrm>
            <a:off x="380880" y="2362320"/>
            <a:ext cx="8382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依次单击“开始”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程序”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管理工具”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服务管理器”，进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控制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右击“默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站点”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属性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址”处选择主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址如：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2.168.0.9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端口号保持默认值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设置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站点消息”。在“欢迎”框中输入登陆成功后的欢迎信息，在“退出”中输入退出信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设置“主目录”为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:\mywe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0" y="22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8"/>
          <p:cNvSpPr/>
          <p:nvPr/>
        </p:nvSpPr>
        <p:spPr>
          <a:xfrm>
            <a:off x="533520" y="457200"/>
            <a:ext cx="83818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设置“安全帐号”。默认的设置为匿名用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nonymous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被允许登陆，如有必要，也可选择拒绝匿名登陆以增加安全性，还可增加其他用于管理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服务器的用户名（默认为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ministrato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客户端测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命令行方式测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S-DO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方式下输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tp 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址或域名、用户名、密码可进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测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址栏中输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tp:/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户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@192.168.0.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tp://I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址，输入用户名和密码（匿名不用）即可访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服务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12-24T03:04:33Z</dcterms:modified>
  <cp:revision>9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